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664320" cy="992520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68">
                <a:moveTo>
                  <a:pt x="5" y="0"/>
                </a:moveTo>
                <a:arcTo wR="5" hR="5" stAng="16200000" swAng="-5400000"/>
                <a:lnTo>
                  <a:pt x="0" y="32163"/>
                </a:lnTo>
                <a:arcTo wR="5" hR="5" stAng="10800000" swAng="-5400000"/>
                <a:lnTo>
                  <a:pt x="21595" y="3216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664320" cy="9925200"/>
          </a:xfrm>
          <a:custGeom>
            <a:avLst/>
            <a:gdLst>
              <a:gd name="textAreaLeft" fmla="*/ 360 w 6664320"/>
              <a:gd name="textAreaRight" fmla="*/ 6663960 w 666432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2168">
                <a:moveTo>
                  <a:pt x="5" y="0"/>
                </a:moveTo>
                <a:arcTo wR="5" hR="5" stAng="16200000" swAng="-5400000"/>
                <a:lnTo>
                  <a:pt x="0" y="32163"/>
                </a:lnTo>
                <a:arcTo wR="5" hR="5" stAng="10800000" swAng="-5400000"/>
                <a:lnTo>
                  <a:pt x="21595" y="3216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915840" y="4716360"/>
            <a:ext cx="488808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ldImg"/>
          </p:nvPr>
        </p:nvSpPr>
        <p:spPr>
          <a:xfrm>
            <a:off x="0" y="7542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8484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Presentation de l’equipe et des roles de chac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-449640"/>
            <a:ext cx="76852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240" y="1523520"/>
            <a:ext cx="77691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240" y="4043520"/>
            <a:ext cx="77691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-449640"/>
            <a:ext cx="76852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240" y="1523520"/>
            <a:ext cx="37911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3480" y="1523520"/>
            <a:ext cx="37911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240" y="4043520"/>
            <a:ext cx="37911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3480" y="4043520"/>
            <a:ext cx="37911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5280" y="-449640"/>
            <a:ext cx="76852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240" y="1523520"/>
            <a:ext cx="250128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08800" y="1523520"/>
            <a:ext cx="250128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5720" y="1523520"/>
            <a:ext cx="250128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240" y="4043520"/>
            <a:ext cx="250128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08800" y="4043520"/>
            <a:ext cx="250128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5720" y="4043520"/>
            <a:ext cx="250128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-449640"/>
            <a:ext cx="76852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240" y="1523520"/>
            <a:ext cx="77691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-449640"/>
            <a:ext cx="76852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240" y="1523520"/>
            <a:ext cx="77691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-449640"/>
            <a:ext cx="76852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240" y="1523520"/>
            <a:ext cx="37911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3480" y="1523520"/>
            <a:ext cx="37911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-449640"/>
            <a:ext cx="76852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295280" y="-449640"/>
            <a:ext cx="7685280" cy="66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-449640"/>
            <a:ext cx="76852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240" y="1523520"/>
            <a:ext cx="37911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3480" y="1523520"/>
            <a:ext cx="37911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240" y="4043520"/>
            <a:ext cx="37911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-449640"/>
            <a:ext cx="76852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240" y="1523520"/>
            <a:ext cx="77691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-449640"/>
            <a:ext cx="76852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240" y="1523520"/>
            <a:ext cx="37911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3480" y="1523520"/>
            <a:ext cx="37911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3480" y="4043520"/>
            <a:ext cx="37911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-449640"/>
            <a:ext cx="76852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240" y="1523520"/>
            <a:ext cx="37911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3480" y="1523520"/>
            <a:ext cx="37911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240" y="4043520"/>
            <a:ext cx="77691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-449640"/>
            <a:ext cx="76852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240" y="1523520"/>
            <a:ext cx="77691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240" y="4043520"/>
            <a:ext cx="77691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-449640"/>
            <a:ext cx="76852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240" y="1523520"/>
            <a:ext cx="37911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3480" y="1523520"/>
            <a:ext cx="37911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240" y="4043520"/>
            <a:ext cx="37911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3480" y="4043520"/>
            <a:ext cx="37911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5280" y="-449640"/>
            <a:ext cx="76852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240" y="1523520"/>
            <a:ext cx="250128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08800" y="1523520"/>
            <a:ext cx="250128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5720" y="1523520"/>
            <a:ext cx="250128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240" y="4043520"/>
            <a:ext cx="250128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08800" y="4043520"/>
            <a:ext cx="250128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5720" y="4043520"/>
            <a:ext cx="250128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-449640"/>
            <a:ext cx="76852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240" y="1523520"/>
            <a:ext cx="77691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-449640"/>
            <a:ext cx="76852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240" y="1523520"/>
            <a:ext cx="37911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3480" y="1523520"/>
            <a:ext cx="37911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5280" y="-449640"/>
            <a:ext cx="76852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295280" y="-449640"/>
            <a:ext cx="7685280" cy="666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-449640"/>
            <a:ext cx="76852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240" y="1523520"/>
            <a:ext cx="37911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3480" y="1523520"/>
            <a:ext cx="37911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240" y="4043520"/>
            <a:ext cx="37911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-449640"/>
            <a:ext cx="76852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240" y="1523520"/>
            <a:ext cx="37911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3480" y="1523520"/>
            <a:ext cx="37911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3480" y="4043520"/>
            <a:ext cx="37911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-449640"/>
            <a:ext cx="76852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240" y="1523520"/>
            <a:ext cx="37911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3480" y="1523520"/>
            <a:ext cx="37911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240" y="4043520"/>
            <a:ext cx="77691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23720" y="279360"/>
            <a:ext cx="438120" cy="474840"/>
          </a:xfrm>
          <a:custGeom>
            <a:avLst/>
            <a:gdLst>
              <a:gd name="textAreaLeft" fmla="*/ 360 w 438120"/>
              <a:gd name="textAreaRight" fmla="*/ 437760 w 438120"/>
              <a:gd name="textAreaTop" fmla="*/ 360 h 474840"/>
              <a:gd name="textAreaBottom" fmla="*/ 474480 h 474840"/>
            </a:gdLst>
            <a:ahLst/>
            <a:rect l="textAreaLeft" t="textAreaTop" r="textAreaRight" b="textAreaBottom"/>
            <a:pathLst>
              <a:path w="21600" h="23409">
                <a:moveTo>
                  <a:pt x="78" y="0"/>
                </a:moveTo>
                <a:arcTo wR="78" hR="78" stAng="16200000" swAng="-5400000"/>
                <a:lnTo>
                  <a:pt x="0" y="23331"/>
                </a:lnTo>
                <a:arcTo wR="78" hR="78" stAng="10800000" swAng="-5400000"/>
                <a:lnTo>
                  <a:pt x="21522" y="23409"/>
                </a:lnTo>
                <a:arcTo wR="78" hR="78" stAng="5400000" swAng="-5400000"/>
                <a:lnTo>
                  <a:pt x="21600" y="78"/>
                </a:lnTo>
                <a:arcTo wR="78" hR="78" stAng="0" swAng="-5400000"/>
                <a:close/>
              </a:path>
            </a:pathLst>
          </a:custGeom>
          <a:solidFill>
            <a:srgbClr val="fff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6400" y="279360"/>
            <a:ext cx="328680" cy="474840"/>
          </a:xfrm>
          <a:custGeom>
            <a:avLst/>
            <a:gdLst>
              <a:gd name="textAreaLeft" fmla="*/ 360 w 328680"/>
              <a:gd name="textAreaRight" fmla="*/ 328320 w 328680"/>
              <a:gd name="textAreaTop" fmla="*/ 360 h 474840"/>
              <a:gd name="textAreaBottom" fmla="*/ 474480 h 474840"/>
            </a:gdLst>
            <a:ahLst/>
            <a:rect l="textAreaLeft" t="textAreaTop" r="textAreaRight" b="textAreaBottom"/>
            <a:pathLst>
              <a:path w="21600" h="31195">
                <a:moveTo>
                  <a:pt x="104" y="0"/>
                </a:moveTo>
                <a:arcTo wR="104" hR="104" stAng="16200000" swAng="-5400000"/>
                <a:lnTo>
                  <a:pt x="0" y="31091"/>
                </a:lnTo>
                <a:arcTo wR="104" hR="104" stAng="10800000" swAng="-5400000"/>
                <a:lnTo>
                  <a:pt x="21496" y="31195"/>
                </a:lnTo>
                <a:arcTo wR="104" hR="104" stAng="5400000" swAng="-5400000"/>
                <a:lnTo>
                  <a:pt x="21600" y="104"/>
                </a:lnTo>
                <a:arcTo wR="104" hR="104" stAng="0" swAng="-5400000"/>
                <a:close/>
              </a:path>
            </a:pathLst>
          </a:custGeom>
          <a:gradFill rotWithShape="0">
            <a:gsLst>
              <a:gs pos="0">
                <a:srgbClr val="fff0c8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7560" y="701640"/>
            <a:ext cx="422280" cy="474840"/>
          </a:xfrm>
          <a:custGeom>
            <a:avLst/>
            <a:gdLst>
              <a:gd name="textAreaLeft" fmla="*/ 360 w 422280"/>
              <a:gd name="textAreaRight" fmla="*/ 421920 w 422280"/>
              <a:gd name="textAreaTop" fmla="*/ 360 h 474840"/>
              <a:gd name="textAreaBottom" fmla="*/ 474480 h 474840"/>
            </a:gdLst>
            <a:ahLst/>
            <a:rect l="textAreaLeft" t="textAreaTop" r="textAreaRight" b="textAreaBottom"/>
            <a:pathLst>
              <a:path w="21600" h="24286">
                <a:moveTo>
                  <a:pt x="81" y="0"/>
                </a:moveTo>
                <a:arcTo wR="81" hR="81" stAng="16200000" swAng="-5400000"/>
                <a:lnTo>
                  <a:pt x="0" y="24205"/>
                </a:lnTo>
                <a:arcTo wR="81" hR="81" stAng="10800000" swAng="-5400000"/>
                <a:lnTo>
                  <a:pt x="21519" y="24286"/>
                </a:lnTo>
                <a:arcTo wR="81" hR="81" stAng="5400000" swAng="-5400000"/>
                <a:lnTo>
                  <a:pt x="21600" y="81"/>
                </a:lnTo>
                <a:arcTo wR="81" hR="81" stAng="0" swAng="-5400000"/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7640" y="701640"/>
            <a:ext cx="368280" cy="474840"/>
          </a:xfrm>
          <a:custGeom>
            <a:avLst/>
            <a:gdLst>
              <a:gd name="textAreaLeft" fmla="*/ 360 w 368280"/>
              <a:gd name="textAreaRight" fmla="*/ 367920 w 368280"/>
              <a:gd name="textAreaTop" fmla="*/ 360 h 474840"/>
              <a:gd name="textAreaBottom" fmla="*/ 474480 h 474840"/>
            </a:gdLst>
            <a:ahLst/>
            <a:rect l="textAreaLeft" t="textAreaTop" r="textAreaRight" b="textAreaBottom"/>
            <a:pathLst>
              <a:path w="21600" h="27844">
                <a:moveTo>
                  <a:pt x="93" y="0"/>
                </a:moveTo>
                <a:arcTo wR="93" hR="93" stAng="16200000" swAng="-5400000"/>
                <a:lnTo>
                  <a:pt x="0" y="27751"/>
                </a:lnTo>
                <a:arcTo wR="93" hR="93" stAng="10800000" swAng="-5400000"/>
                <a:lnTo>
                  <a:pt x="21507" y="27844"/>
                </a:lnTo>
                <a:arcTo wR="93" hR="93" stAng="5400000" swAng="-5400000"/>
                <a:lnTo>
                  <a:pt x="21600" y="93"/>
                </a:lnTo>
                <a:arcTo wR="93" hR="93" stAng="0" swAng="-5400000"/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33200" y="628560"/>
            <a:ext cx="560520" cy="422280"/>
          </a:xfrm>
          <a:prstGeom prst="roundRect">
            <a:avLst>
              <a:gd name="adj" fmla="val 375"/>
            </a:avLst>
          </a:prstGeom>
          <a:gradFill rotWithShape="0">
            <a:gsLst>
              <a:gs pos="0">
                <a:srgbClr val="ffffff"/>
              </a:gs>
              <a:gs pos="100000">
                <a:srgbClr val="e0fff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84080" y="438120"/>
            <a:ext cx="32040" cy="1052640"/>
          </a:xfrm>
          <a:custGeom>
            <a:avLst/>
            <a:gdLst>
              <a:gd name="textAreaLeft" fmla="*/ 360 w 32040"/>
              <a:gd name="textAreaRight" fmla="*/ 31680 w 32040"/>
              <a:gd name="textAreaTop" fmla="*/ 360 h 1052640"/>
              <a:gd name="textAreaBottom" fmla="*/ 1052280 h 1052640"/>
            </a:gdLst>
            <a:ahLst/>
            <a:rect l="textAreaLeft" t="textAreaTop" r="textAreaRight" b="textAreaBottom"/>
            <a:pathLst>
              <a:path w="21600" h="702000">
                <a:moveTo>
                  <a:pt x="1080" y="0"/>
                </a:moveTo>
                <a:arcTo wR="1080" hR="1080" stAng="16200000" swAng="-5400000"/>
                <a:lnTo>
                  <a:pt x="0" y="700920"/>
                </a:lnTo>
                <a:arcTo wR="1080" hR="1080" stAng="10800000" swAng="-5400000"/>
                <a:lnTo>
                  <a:pt x="20520" y="702000"/>
                </a:lnTo>
                <a:arcTo wR="1080" hR="1080" stAng="5400000" swAng="-5400000"/>
                <a:lnTo>
                  <a:pt x="21600" y="1080"/>
                </a:lnTo>
                <a:arcTo wR="1080" hR="1080" stAng="0" swAng="-5400000"/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82760" y="987480"/>
            <a:ext cx="8226360" cy="3168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5400000">
            <a:off x="-111600" y="3619440"/>
            <a:ext cx="1523880" cy="685800"/>
          </a:xfrm>
          <a:prstGeom prst="roundRect">
            <a:avLst>
              <a:gd name="adj" fmla="val 231"/>
            </a:avLst>
          </a:prstGeom>
          <a:gradFill rotWithShape="0">
            <a:gsLst>
              <a:gs pos="0">
                <a:srgbClr val="ffffff"/>
              </a:gs>
              <a:gs pos="100000">
                <a:srgbClr val="e0ffe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04920" y="1752480"/>
            <a:ext cx="685800" cy="1524240"/>
          </a:xfrm>
          <a:custGeom>
            <a:avLst/>
            <a:gdLst>
              <a:gd name="textAreaLeft" fmla="*/ 360 w 685800"/>
              <a:gd name="textAreaRight" fmla="*/ 685440 w 685800"/>
              <a:gd name="textAreaTop" fmla="*/ 360 h 1524240"/>
              <a:gd name="textAreaBottom" fmla="*/ 1523880 h 1524240"/>
            </a:gdLst>
            <a:ahLst/>
            <a:rect l="textAreaLeft" t="textAreaTop" r="textAreaRight" b="textAreaBottom"/>
            <a:pathLst>
              <a:path w="21600" h="47994">
                <a:moveTo>
                  <a:pt x="50" y="0"/>
                </a:moveTo>
                <a:arcTo wR="50" hR="50" stAng="16200000" swAng="-5400000"/>
                <a:lnTo>
                  <a:pt x="0" y="47944"/>
                </a:lnTo>
                <a:arcTo wR="50" hR="50" stAng="10800000" swAng="-5400000"/>
                <a:lnTo>
                  <a:pt x="21550" y="47994"/>
                </a:lnTo>
                <a:arcTo wR="50" hR="50" stAng="5400000" swAng="-5400000"/>
                <a:lnTo>
                  <a:pt x="21600" y="50"/>
                </a:lnTo>
                <a:arcTo wR="50" hR="50" stAng="0" swAng="-5400000"/>
                <a:close/>
              </a:path>
            </a:pathLst>
          </a:custGeom>
          <a:gradFill rotWithShape="0">
            <a:gsLst>
              <a:gs pos="0">
                <a:srgbClr val="fff0c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04920" y="1523880"/>
            <a:ext cx="685800" cy="457200"/>
          </a:xfrm>
          <a:prstGeom prst="roundRect">
            <a:avLst>
              <a:gd name="adj" fmla="val 347"/>
            </a:avLst>
          </a:prstGeom>
          <a:gradFill rotWithShape="0">
            <a:gsLst>
              <a:gs pos="0">
                <a:srgbClr val="ffffff"/>
              </a:gs>
              <a:gs pos="100000">
                <a:srgbClr val="fff0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rot="5400000">
            <a:off x="383760" y="4498920"/>
            <a:ext cx="533160" cy="685800"/>
          </a:xfrm>
          <a:custGeom>
            <a:avLst/>
            <a:gdLst>
              <a:gd name="textAreaLeft" fmla="*/ 360 w 533160"/>
              <a:gd name="textAreaRight" fmla="*/ 532800 w 53316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27780">
                <a:moveTo>
                  <a:pt x="64" y="0"/>
                </a:moveTo>
                <a:arcTo wR="64" hR="64" stAng="16200000" swAng="-5400000"/>
                <a:lnTo>
                  <a:pt x="0" y="27716"/>
                </a:lnTo>
                <a:arcTo wR="64" hR="64" stAng="10800000" swAng="-5400000"/>
                <a:lnTo>
                  <a:pt x="21536" y="27780"/>
                </a:lnTo>
                <a:arcTo wR="64" hR="64" stAng="5400000" swAng="-5400000"/>
                <a:lnTo>
                  <a:pt x="21600" y="64"/>
                </a:lnTo>
                <a:arcTo wR="64" hR="64" stAng="0" swAng="-5400000"/>
                <a:close/>
              </a:path>
            </a:pathLst>
          </a:custGeom>
          <a:gradFill rotWithShape="0">
            <a:gsLst>
              <a:gs pos="0">
                <a:srgbClr val="e0ffe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-449640"/>
            <a:ext cx="76852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182240" y="1523520"/>
            <a:ext cx="77691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15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599"/>
              </a:spcBef>
              <a:buClr>
                <a:srgbClr val="00cc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5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5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5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5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 rot="2940000">
            <a:off x="1276200" y="5214600"/>
            <a:ext cx="1523880" cy="685800"/>
          </a:xfrm>
          <a:prstGeom prst="roundRect">
            <a:avLst>
              <a:gd name="adj" fmla="val 231"/>
            </a:avLst>
          </a:prstGeom>
          <a:gradFill rotWithShape="0">
            <a:gsLst>
              <a:gs pos="0">
                <a:srgbClr val="ffffff"/>
              </a:gs>
              <a:gs pos="100000">
                <a:srgbClr val="e0ffe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9080000">
            <a:off x="738360" y="3714840"/>
            <a:ext cx="685800" cy="1523880"/>
          </a:xfrm>
          <a:custGeom>
            <a:avLst/>
            <a:gdLst>
              <a:gd name="textAreaLeft" fmla="*/ 360 w 685800"/>
              <a:gd name="textAreaRight" fmla="*/ 685440 w 685800"/>
              <a:gd name="textAreaTop" fmla="*/ 360 h 1523880"/>
              <a:gd name="textAreaBottom" fmla="*/ 1523520 h 1523880"/>
            </a:gdLst>
            <a:ahLst/>
            <a:rect l="textAreaLeft" t="textAreaTop" r="textAreaRight" b="textAreaBottom"/>
            <a:pathLst>
              <a:path w="21600" h="47982">
                <a:moveTo>
                  <a:pt x="50" y="0"/>
                </a:moveTo>
                <a:arcTo wR="50" hR="50" stAng="16200000" swAng="-5400000"/>
                <a:lnTo>
                  <a:pt x="0" y="47932"/>
                </a:lnTo>
                <a:arcTo wR="50" hR="50" stAng="10800000" swAng="-5400000"/>
                <a:lnTo>
                  <a:pt x="21550" y="47982"/>
                </a:lnTo>
                <a:arcTo wR="50" hR="50" stAng="5400000" swAng="-5400000"/>
                <a:lnTo>
                  <a:pt x="21600" y="50"/>
                </a:lnTo>
                <a:arcTo wR="50" hR="50" stAng="0" swAng="-5400000"/>
                <a:close/>
              </a:path>
            </a:pathLst>
          </a:custGeom>
          <a:gradFill rotWithShape="0">
            <a:gsLst>
              <a:gs pos="0">
                <a:srgbClr val="fff0c8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9080000">
            <a:off x="-193320" y="2776320"/>
            <a:ext cx="685800" cy="1285560"/>
          </a:xfrm>
          <a:custGeom>
            <a:avLst/>
            <a:gdLst>
              <a:gd name="textAreaLeft" fmla="*/ 360 w 685800"/>
              <a:gd name="textAreaRight" fmla="*/ 685440 w 685800"/>
              <a:gd name="textAreaTop" fmla="*/ 360 h 1285560"/>
              <a:gd name="textAreaBottom" fmla="*/ 1285200 h 1285560"/>
            </a:gdLst>
            <a:ahLst/>
            <a:rect l="textAreaLeft" t="textAreaTop" r="textAreaRight" b="textAreaBottom"/>
            <a:pathLst>
              <a:path w="21600" h="40480">
                <a:moveTo>
                  <a:pt x="50" y="0"/>
                </a:moveTo>
                <a:arcTo wR="50" hR="50" stAng="16200000" swAng="-5400000"/>
                <a:lnTo>
                  <a:pt x="0" y="40430"/>
                </a:lnTo>
                <a:arcTo wR="50" hR="50" stAng="10800000" swAng="-5400000"/>
                <a:lnTo>
                  <a:pt x="21550" y="40480"/>
                </a:lnTo>
                <a:arcTo wR="50" hR="50" stAng="5400000" swAng="-5400000"/>
                <a:lnTo>
                  <a:pt x="21600" y="50"/>
                </a:lnTo>
                <a:arcTo wR="50" hR="5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0c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2940000">
            <a:off x="2239560" y="6451560"/>
            <a:ext cx="1774800" cy="685800"/>
          </a:xfrm>
          <a:prstGeom prst="roundRect">
            <a:avLst>
              <a:gd name="adj" fmla="val 231"/>
            </a:avLst>
          </a:prstGeom>
          <a:gradFill rotWithShape="0">
            <a:gsLst>
              <a:gs pos="0">
                <a:srgbClr val="e0ffe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0520" y="1413000"/>
            <a:ext cx="438120" cy="474480"/>
          </a:xfrm>
          <a:custGeom>
            <a:avLst/>
            <a:gdLst>
              <a:gd name="textAreaLeft" fmla="*/ 360 w 438120"/>
              <a:gd name="textAreaRight" fmla="*/ 437760 w 438120"/>
              <a:gd name="textAreaTop" fmla="*/ 360 h 474480"/>
              <a:gd name="textAreaBottom" fmla="*/ 474120 h 474480"/>
            </a:gdLst>
            <a:ahLst/>
            <a:rect l="textAreaLeft" t="textAreaTop" r="textAreaRight" b="textAreaBottom"/>
            <a:pathLst>
              <a:path w="21600" h="23391">
                <a:moveTo>
                  <a:pt x="78" y="0"/>
                </a:moveTo>
                <a:arcTo wR="78" hR="78" stAng="16200000" swAng="-5400000"/>
                <a:lnTo>
                  <a:pt x="0" y="23313"/>
                </a:lnTo>
                <a:arcTo wR="78" hR="78" stAng="10800000" swAng="-5400000"/>
                <a:lnTo>
                  <a:pt x="21522" y="23391"/>
                </a:lnTo>
                <a:arcTo wR="78" hR="78" stAng="5400000" swAng="-5400000"/>
                <a:lnTo>
                  <a:pt x="21600" y="78"/>
                </a:lnTo>
                <a:arcTo wR="78" hR="78" stAng="0" swAng="-5400000"/>
                <a:close/>
              </a:path>
            </a:pathLst>
          </a:custGeom>
          <a:solidFill>
            <a:srgbClr val="fff0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3200" y="1413000"/>
            <a:ext cx="328680" cy="474480"/>
          </a:xfrm>
          <a:custGeom>
            <a:avLst/>
            <a:gdLst>
              <a:gd name="textAreaLeft" fmla="*/ 360 w 328680"/>
              <a:gd name="textAreaRight" fmla="*/ 328320 w 328680"/>
              <a:gd name="textAreaTop" fmla="*/ 360 h 474480"/>
              <a:gd name="textAreaBottom" fmla="*/ 474120 h 474480"/>
            </a:gdLst>
            <a:ahLst/>
            <a:rect l="textAreaLeft" t="textAreaTop" r="textAreaRight" b="textAreaBottom"/>
            <a:pathLst>
              <a:path w="21600" h="31171">
                <a:moveTo>
                  <a:pt x="104" y="0"/>
                </a:moveTo>
                <a:arcTo wR="104" hR="104" stAng="16200000" swAng="-5400000"/>
                <a:lnTo>
                  <a:pt x="0" y="31067"/>
                </a:lnTo>
                <a:arcTo wR="104" hR="104" stAng="10800000" swAng="-5400000"/>
                <a:lnTo>
                  <a:pt x="21496" y="31171"/>
                </a:lnTo>
                <a:arcTo wR="104" hR="104" stAng="5400000" swAng="-5400000"/>
                <a:lnTo>
                  <a:pt x="21600" y="104"/>
                </a:lnTo>
                <a:arcTo wR="104" hR="104" stAng="0" swAng="-5400000"/>
                <a:close/>
              </a:path>
            </a:pathLst>
          </a:custGeom>
          <a:gradFill rotWithShape="0">
            <a:gsLst>
              <a:gs pos="0">
                <a:srgbClr val="fff0c8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360" y="1835280"/>
            <a:ext cx="422280" cy="474480"/>
          </a:xfrm>
          <a:custGeom>
            <a:avLst/>
            <a:gdLst>
              <a:gd name="textAreaLeft" fmla="*/ 360 w 422280"/>
              <a:gd name="textAreaRight" fmla="*/ 421920 w 422280"/>
              <a:gd name="textAreaTop" fmla="*/ 360 h 474480"/>
              <a:gd name="textAreaBottom" fmla="*/ 474120 h 474480"/>
            </a:gdLst>
            <a:ahLst/>
            <a:rect l="textAreaLeft" t="textAreaTop" r="textAreaRight" b="textAreaBottom"/>
            <a:pathLst>
              <a:path w="21600" h="24268">
                <a:moveTo>
                  <a:pt x="81" y="0"/>
                </a:moveTo>
                <a:arcTo wR="81" hR="81" stAng="16200000" swAng="-5400000"/>
                <a:lnTo>
                  <a:pt x="0" y="24187"/>
                </a:lnTo>
                <a:arcTo wR="81" hR="81" stAng="10800000" swAng="-5400000"/>
                <a:lnTo>
                  <a:pt x="21519" y="24268"/>
                </a:lnTo>
                <a:arcTo wR="81" hR="81" stAng="5400000" swAng="-5400000"/>
                <a:lnTo>
                  <a:pt x="21600" y="81"/>
                </a:lnTo>
                <a:arcTo wR="81" hR="81" stAng="0" swAng="-5400000"/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84080" y="1835280"/>
            <a:ext cx="368280" cy="474480"/>
          </a:xfrm>
          <a:custGeom>
            <a:avLst/>
            <a:gdLst>
              <a:gd name="textAreaLeft" fmla="*/ 360 w 368280"/>
              <a:gd name="textAreaRight" fmla="*/ 367920 w 368280"/>
              <a:gd name="textAreaTop" fmla="*/ 360 h 474480"/>
              <a:gd name="textAreaBottom" fmla="*/ 474120 h 474480"/>
            </a:gdLst>
            <a:ahLst/>
            <a:rect l="textAreaLeft" t="textAreaTop" r="textAreaRight" b="textAreaBottom"/>
            <a:pathLst>
              <a:path w="21600" h="27823">
                <a:moveTo>
                  <a:pt x="93" y="0"/>
                </a:moveTo>
                <a:arcTo wR="93" hR="93" stAng="16200000" swAng="-5400000"/>
                <a:lnTo>
                  <a:pt x="0" y="27730"/>
                </a:lnTo>
                <a:arcTo wR="93" hR="93" stAng="10800000" swAng="-5400000"/>
                <a:lnTo>
                  <a:pt x="21507" y="27823"/>
                </a:lnTo>
                <a:arcTo wR="93" hR="93" stAng="5400000" swAng="-5400000"/>
                <a:lnTo>
                  <a:pt x="21600" y="93"/>
                </a:lnTo>
                <a:arcTo wR="93" hR="93" stAng="0" swAng="-5400000"/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762200"/>
            <a:ext cx="560520" cy="422280"/>
          </a:xfrm>
          <a:prstGeom prst="roundRect">
            <a:avLst>
              <a:gd name="adj" fmla="val 375"/>
            </a:avLst>
          </a:prstGeom>
          <a:gradFill rotWithShape="0">
            <a:gsLst>
              <a:gs pos="0">
                <a:srgbClr val="ffffff"/>
              </a:gs>
              <a:gs pos="100000">
                <a:srgbClr val="e0fff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5040" y="1501920"/>
            <a:ext cx="31680" cy="1052280"/>
          </a:xfrm>
          <a:custGeom>
            <a:avLst/>
            <a:gdLst>
              <a:gd name="textAreaLeft" fmla="*/ 360 w 31680"/>
              <a:gd name="textAreaRight" fmla="*/ 31320 w 31680"/>
              <a:gd name="textAreaTop" fmla="*/ 360 h 1052280"/>
              <a:gd name="textAreaBottom" fmla="*/ 1051920 h 1052280"/>
            </a:gdLst>
            <a:ahLst/>
            <a:rect l="textAreaLeft" t="textAreaTop" r="textAreaRight" b="textAreaBottom"/>
            <a:pathLst>
              <a:path w="21600" h="709645">
                <a:moveTo>
                  <a:pt x="1080" y="0"/>
                </a:moveTo>
                <a:arcTo wR="1080" hR="1080" stAng="16200000" swAng="-5400000"/>
                <a:lnTo>
                  <a:pt x="0" y="708565"/>
                </a:lnTo>
                <a:arcTo wR="1080" hR="1080" stAng="10800000" swAng="-5400000"/>
                <a:lnTo>
                  <a:pt x="20520" y="709645"/>
                </a:lnTo>
                <a:arcTo wR="1080" hR="1080" stAng="5400000" swAng="-5400000"/>
                <a:lnTo>
                  <a:pt x="21600" y="1080"/>
                </a:lnTo>
                <a:arcTo wR="1080" hR="1080" stAng="0" swAng="-5400000"/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6080" y="2095560"/>
            <a:ext cx="8226360" cy="31680"/>
          </a:xfrm>
          <a:prstGeom prst="roundRect">
            <a:avLst>
              <a:gd name="adj" fmla="val 5000"/>
            </a:avLst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541080"/>
            <a:ext cx="776916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8058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15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599"/>
              </a:spcBef>
              <a:buClr>
                <a:srgbClr val="00cc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5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5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5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5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6188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Architecture Technique de la plate-forme CASTO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95320" y="3125880"/>
            <a:ext cx="7315200" cy="31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Formation Développe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25-27 janvier 200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rojet Cast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ahoma"/>
              </a:rPr>
              <a:t>©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Ecole des Mines de Na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http://www.castore.o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68528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CASTORE core</a:t>
            </a: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240" y="1523520"/>
            <a:ext cx="77691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 projet CA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st indépendant des aut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ntient toute la logique métier CASTORE + accès aux ressources (BD + F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ropose les Façades aux autres modules/Proj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243000" y="2751120"/>
            <a:ext cx="735840" cy="2975040"/>
            <a:chOff x="243000" y="2751120"/>
            <a:chExt cx="735840" cy="2975040"/>
          </a:xfrm>
        </p:grpSpPr>
        <p:sp>
          <p:nvSpPr>
            <p:cNvPr id="291" name=""/>
            <p:cNvSpPr/>
            <p:nvPr/>
          </p:nvSpPr>
          <p:spPr>
            <a:xfrm rot="16200000">
              <a:off x="-878400" y="3872520"/>
              <a:ext cx="2975040" cy="73188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6200000">
              <a:off x="-254520" y="4490280"/>
              <a:ext cx="1735920" cy="73116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3333cc"/>
                  </a:solidFill>
                  <a:latin typeface="Times New Roman"/>
                </a:rPr>
                <a:t>Projet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68528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CASTORE apple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82240" y="1523520"/>
            <a:ext cx="77691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ntient les applets de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1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Gestion des types de docu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1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Gestion des feuilles de sty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ié aux servlets pour la communication client/serve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243000" y="2751120"/>
            <a:ext cx="735840" cy="2975040"/>
            <a:chOff x="243000" y="2751120"/>
            <a:chExt cx="735840" cy="2975040"/>
          </a:xfrm>
        </p:grpSpPr>
        <p:sp>
          <p:nvSpPr>
            <p:cNvPr id="296" name=""/>
            <p:cNvSpPr/>
            <p:nvPr/>
          </p:nvSpPr>
          <p:spPr>
            <a:xfrm rot="16200000">
              <a:off x="-878400" y="3872520"/>
              <a:ext cx="2975040" cy="73188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6200000">
              <a:off x="-254520" y="4490280"/>
              <a:ext cx="1735920" cy="73116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3333cc"/>
                  </a:solidFill>
                  <a:latin typeface="Times New Roman"/>
                </a:rPr>
                <a:t>Projet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68528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CASTORE servle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240" y="1523520"/>
            <a:ext cx="77691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Servlet d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Servlet O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Diagram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ffichage des images et des docu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spcBef>
                <a:spcPts val="15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243000" y="2751120"/>
            <a:ext cx="735840" cy="2975040"/>
            <a:chOff x="243000" y="2751120"/>
            <a:chExt cx="735840" cy="2975040"/>
          </a:xfrm>
        </p:grpSpPr>
        <p:sp>
          <p:nvSpPr>
            <p:cNvPr id="301" name=""/>
            <p:cNvSpPr/>
            <p:nvPr/>
          </p:nvSpPr>
          <p:spPr>
            <a:xfrm rot="16200000">
              <a:off x="-878400" y="3872520"/>
              <a:ext cx="2975040" cy="73188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6200000">
              <a:off x="-254520" y="4490280"/>
              <a:ext cx="1735920" cy="73116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3333cc"/>
                  </a:solidFill>
                  <a:latin typeface="Times New Roman"/>
                </a:rPr>
                <a:t>Projet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68528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CASTORE stru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240" y="1523520"/>
            <a:ext cx="77691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ntient SEULEMENT les classes d’action et formulaires STR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43000" y="2751120"/>
            <a:ext cx="735840" cy="2975040"/>
            <a:chOff x="243000" y="2751120"/>
            <a:chExt cx="735840" cy="2975040"/>
          </a:xfrm>
        </p:grpSpPr>
        <p:sp>
          <p:nvSpPr>
            <p:cNvPr id="306" name=""/>
            <p:cNvSpPr/>
            <p:nvPr/>
          </p:nvSpPr>
          <p:spPr>
            <a:xfrm rot="16200000">
              <a:off x="-878400" y="3872520"/>
              <a:ext cx="2975040" cy="73188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6200000">
              <a:off x="-254520" y="4490280"/>
              <a:ext cx="1735920" cy="73116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3333cc"/>
                  </a:solidFill>
                  <a:latin typeface="Times New Roman"/>
                </a:rPr>
                <a:t>Projet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68528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CASTORE struts-webap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240" y="1523520"/>
            <a:ext cx="77691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st l’application CASTORE actue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ntient les J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ccueille les applets et les classes compilées avec MAV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000" y="2751120"/>
            <a:ext cx="735840" cy="2975040"/>
            <a:chOff x="243000" y="2751120"/>
            <a:chExt cx="735840" cy="2975040"/>
          </a:xfrm>
        </p:grpSpPr>
        <p:sp>
          <p:nvSpPr>
            <p:cNvPr id="311" name=""/>
            <p:cNvSpPr/>
            <p:nvPr/>
          </p:nvSpPr>
          <p:spPr>
            <a:xfrm rot="16200000">
              <a:off x="-878400" y="3872520"/>
              <a:ext cx="2975040" cy="73188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6200000">
              <a:off x="-254520" y="4490280"/>
              <a:ext cx="1735920" cy="73116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3333cc"/>
                  </a:solidFill>
                  <a:latin typeface="Times New Roman"/>
                </a:rPr>
                <a:t>Projet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685280" cy="105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daptation de la platefor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295280" y="1523160"/>
            <a:ext cx="7696080" cy="4735800"/>
            <a:chOff x="1295280" y="1523160"/>
            <a:chExt cx="7696080" cy="4735800"/>
          </a:xfrm>
        </p:grpSpPr>
        <p:sp>
          <p:nvSpPr>
            <p:cNvPr id="315" name=""/>
            <p:cNvSpPr/>
            <p:nvPr/>
          </p:nvSpPr>
          <p:spPr>
            <a:xfrm>
              <a:off x="7696080" y="5867280"/>
              <a:ext cx="125280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505051"/>
                  </a:solidFill>
                  <a:latin typeface="Arial"/>
                </a:rPr>
                <a:t>SGB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2400" y="4756320"/>
              <a:ext cx="1143000" cy="1447560"/>
            </a:xfrm>
            <a:custGeom>
              <a:avLst/>
              <a:gdLst>
                <a:gd name="textAreaLeft" fmla="*/ 360 w 1143000"/>
                <a:gd name="textAreaRight" fmla="*/ 1142640 w 1143000"/>
                <a:gd name="textAreaTop" fmla="*/ 360 h 1447560"/>
                <a:gd name="textAreaBottom" fmla="*/ 1447200 h 1447560"/>
              </a:gdLst>
              <a:ahLst/>
              <a:rect l="textAreaLeft" t="textAreaTop" r="textAreaRight" b="textAreaBottom"/>
              <a:pathLst>
                <a:path w="21600" h="27354">
                  <a:moveTo>
                    <a:pt x="30" y="0"/>
                  </a:moveTo>
                  <a:arcTo wR="30" hR="30" stAng="16200000" swAng="-5400000"/>
                  <a:lnTo>
                    <a:pt x="0" y="27324"/>
                  </a:lnTo>
                  <a:arcTo wR="30" hR="30" stAng="10800000" swAng="-5400000"/>
                  <a:lnTo>
                    <a:pt x="21570" y="27354"/>
                  </a:lnTo>
                  <a:arcTo wR="30" hR="30" stAng="5400000" swAng="-5400000"/>
                  <a:lnTo>
                    <a:pt x="21600" y="30"/>
                  </a:lnTo>
                  <a:arcTo wR="30" hR="30" stAng="0" swAng="-5400000"/>
                  <a:close/>
                </a:path>
              </a:pathLst>
            </a:custGeom>
            <a:noFill/>
            <a:ln w="93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7010280" y="3581280"/>
              <a:ext cx="1981080" cy="762120"/>
              <a:chOff x="7010280" y="3581280"/>
              <a:chExt cx="1981080" cy="762120"/>
            </a:xfrm>
          </p:grpSpPr>
          <p:sp>
            <p:nvSpPr>
              <p:cNvPr id="318" name=""/>
              <p:cNvSpPr/>
              <p:nvPr/>
            </p:nvSpPr>
            <p:spPr>
              <a:xfrm>
                <a:off x="7010280" y="3581280"/>
                <a:ext cx="1981080" cy="762120"/>
              </a:xfrm>
              <a:prstGeom prst="roundRect">
                <a:avLst>
                  <a:gd name="adj" fmla="val 208"/>
                </a:avLst>
              </a:prstGeom>
              <a:noFill/>
              <a:ln w="936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010280" y="3581280"/>
                <a:ext cx="1981080" cy="762120"/>
              </a:xfrm>
              <a:prstGeom prst="roundRect">
                <a:avLst>
                  <a:gd name="adj" fmla="val 20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Times New Roman"/>
                  </a:rPr>
                  <a:t>Système de fichier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848720" y="4800600"/>
              <a:ext cx="985680" cy="1014120"/>
              <a:chOff x="7848720" y="4800600"/>
              <a:chExt cx="985680" cy="1014120"/>
            </a:xfrm>
          </p:grpSpPr>
          <p:sp>
            <p:nvSpPr>
              <p:cNvPr id="321" name=""/>
              <p:cNvSpPr/>
              <p:nvPr/>
            </p:nvSpPr>
            <p:spPr>
              <a:xfrm>
                <a:off x="7848720" y="5008320"/>
                <a:ext cx="985680" cy="555840"/>
              </a:xfrm>
              <a:prstGeom prst="roundRect">
                <a:avLst>
                  <a:gd name="adj" fmla="val 282"/>
                </a:avLst>
              </a:prstGeom>
              <a:gradFill rotWithShape="0">
                <a:gsLst>
                  <a:gs pos="0">
                    <a:srgbClr val="658374"/>
                  </a:gs>
                  <a:gs pos="50000">
                    <a:srgbClr val="9bafa5"/>
                  </a:gs>
                  <a:gs pos="100000">
                    <a:srgbClr val="65837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848720" y="4800600"/>
                <a:ext cx="980640" cy="478800"/>
              </a:xfrm>
              <a:prstGeom prst="ellipse">
                <a:avLst/>
              </a:prstGeom>
              <a:gradFill rotWithShape="0">
                <a:gsLst>
                  <a:gs pos="0">
                    <a:srgbClr val="9bafa5"/>
                  </a:gs>
                  <a:gs pos="100000">
                    <a:srgbClr val="65837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848720" y="5335920"/>
                <a:ext cx="980640" cy="478800"/>
              </a:xfrm>
              <a:prstGeom prst="ellipse">
                <a:avLst/>
              </a:prstGeom>
              <a:gradFill rotWithShape="0">
                <a:gsLst>
                  <a:gs pos="0">
                    <a:srgbClr val="658374"/>
                  </a:gs>
                  <a:gs pos="50000">
                    <a:srgbClr val="9bafa5"/>
                  </a:gs>
                  <a:gs pos="100000">
                    <a:srgbClr val="65837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1523880" y="3886200"/>
              <a:ext cx="5181840" cy="2133720"/>
              <a:chOff x="1523880" y="3886200"/>
              <a:chExt cx="5181840" cy="2133720"/>
            </a:xfrm>
          </p:grpSpPr>
          <p:sp>
            <p:nvSpPr>
              <p:cNvPr id="325" name=""/>
              <p:cNvSpPr/>
              <p:nvPr/>
            </p:nvSpPr>
            <p:spPr>
              <a:xfrm>
                <a:off x="1523880" y="3886200"/>
                <a:ext cx="5181840" cy="2133720"/>
              </a:xfrm>
              <a:prstGeom prst="roundRect">
                <a:avLst>
                  <a:gd name="adj" fmla="val 42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523880" y="3886200"/>
                <a:ext cx="518184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Projet ‘Core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590920" y="4343400"/>
              <a:ext cx="1830240" cy="406440"/>
              <a:chOff x="2590920" y="4343400"/>
              <a:chExt cx="1830240" cy="406440"/>
            </a:xfrm>
          </p:grpSpPr>
          <p:sp>
            <p:nvSpPr>
              <p:cNvPr id="328" name=""/>
              <p:cNvSpPr/>
              <p:nvPr/>
            </p:nvSpPr>
            <p:spPr>
              <a:xfrm>
                <a:off x="2590920" y="4343400"/>
                <a:ext cx="1830240" cy="406440"/>
              </a:xfrm>
              <a:prstGeom prst="roundRect">
                <a:avLst>
                  <a:gd name="adj" fmla="val 16796"/>
                </a:avLst>
              </a:prstGeom>
              <a:solidFill>
                <a:srgbClr val="99ccff"/>
              </a:solidFill>
              <a:ln w="9360">
                <a:solidFill>
                  <a:srgbClr val="50505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612880" y="4365360"/>
                <a:ext cx="1785600" cy="361800"/>
              </a:xfrm>
              <a:prstGeom prst="roundRect">
                <a:avLst>
                  <a:gd name="adj" fmla="val 43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acad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6270480" y="5091120"/>
              <a:ext cx="990720" cy="546120"/>
              <a:chOff x="6270480" y="5091120"/>
              <a:chExt cx="990720" cy="546120"/>
            </a:xfrm>
          </p:grpSpPr>
          <p:sp>
            <p:nvSpPr>
              <p:cNvPr id="331" name=""/>
              <p:cNvSpPr/>
              <p:nvPr/>
            </p:nvSpPr>
            <p:spPr>
              <a:xfrm>
                <a:off x="6270480" y="5091120"/>
                <a:ext cx="990720" cy="546120"/>
              </a:xfrm>
              <a:custGeom>
                <a:avLst/>
                <a:gdLst/>
                <a:ahLst/>
                <a:rect l="l" t="t" r="r" b="b"/>
                <a:pathLst>
                  <a:path w="2750" h="1518">
                    <a:moveTo>
                      <a:pt x="351" y="0"/>
                    </a:moveTo>
                    <a:lnTo>
                      <a:pt x="2397" y="0"/>
                    </a:lnTo>
                    <a:lnTo>
                      <a:pt x="2749" y="351"/>
                    </a:lnTo>
                    <a:lnTo>
                      <a:pt x="2749" y="1166"/>
                    </a:lnTo>
                    <a:lnTo>
                      <a:pt x="2397" y="1517"/>
                    </a:lnTo>
                    <a:lnTo>
                      <a:pt x="351" y="1517"/>
                    </a:lnTo>
                    <a:lnTo>
                      <a:pt x="0" y="1166"/>
                    </a:lnTo>
                    <a:lnTo>
                      <a:pt x="0" y="351"/>
                    </a:lnTo>
                    <a:lnTo>
                      <a:pt x="351" y="0"/>
                    </a:lnTo>
                  </a:path>
                </a:pathLst>
              </a:custGeom>
              <a:solidFill>
                <a:srgbClr val="cc99ff"/>
              </a:solidFill>
              <a:ln w="9360">
                <a:solidFill>
                  <a:srgbClr val="5050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395400" y="5144040"/>
                <a:ext cx="739080" cy="442080"/>
              </a:xfrm>
              <a:prstGeom prst="roundRect">
                <a:avLst>
                  <a:gd name="adj" fmla="val 37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JD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886200" y="5257800"/>
              <a:ext cx="1655640" cy="287280"/>
              <a:chOff x="3886200" y="5257800"/>
              <a:chExt cx="1655640" cy="287280"/>
            </a:xfrm>
          </p:grpSpPr>
          <p:sp>
            <p:nvSpPr>
              <p:cNvPr id="334" name=""/>
              <p:cNvSpPr/>
              <p:nvPr/>
            </p:nvSpPr>
            <p:spPr>
              <a:xfrm>
                <a:off x="3886200" y="5257800"/>
                <a:ext cx="1655640" cy="287280"/>
              </a:xfrm>
              <a:prstGeom prst="roundRect">
                <a:avLst>
                  <a:gd name="adj" fmla="val 546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886200" y="5257800"/>
                <a:ext cx="1655640" cy="287280"/>
              </a:xfrm>
              <a:prstGeom prst="roundRect">
                <a:avLst>
                  <a:gd name="adj" fmla="val 54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OJO*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5411880" y="6019920"/>
              <a:ext cx="1356480" cy="239040"/>
            </a:xfrm>
            <a:prstGeom prst="roundRect">
              <a:avLst>
                <a:gd name="adj" fmla="val 6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*Plain Old Java Obj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7" name=""/>
            <p:cNvCxnSpPr>
              <a:stCxn id="331" idx="0"/>
              <a:endCxn id="316" idx="1"/>
            </p:cNvCxnSpPr>
            <p:nvPr/>
          </p:nvCxnSpPr>
          <p:spPr>
            <a:xfrm flipV="1">
              <a:off x="7261200" y="5479920"/>
              <a:ext cx="511920" cy="30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38" name=""/>
            <p:cNvCxnSpPr>
              <a:stCxn id="328" idx="2"/>
              <a:endCxn id="334" idx="0"/>
            </p:cNvCxnSpPr>
            <p:nvPr/>
          </p:nvCxnSpPr>
          <p:spPr>
            <a:xfrm>
              <a:off x="3506760" y="4750920"/>
              <a:ext cx="1208880" cy="50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39" name=""/>
            <p:cNvCxnSpPr>
              <a:stCxn id="340" idx="2"/>
              <a:endCxn id="328" idx="0"/>
            </p:cNvCxnSpPr>
            <p:nvPr/>
          </p:nvCxnSpPr>
          <p:spPr>
            <a:xfrm>
              <a:off x="2135160" y="3397320"/>
              <a:ext cx="137232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41" name=""/>
            <p:cNvCxnSpPr>
              <a:stCxn id="335" idx="0"/>
              <a:endCxn id="319" idx="1"/>
            </p:cNvCxnSpPr>
            <p:nvPr/>
          </p:nvCxnSpPr>
          <p:spPr>
            <a:xfrm flipV="1">
              <a:off x="4714920" y="3962160"/>
              <a:ext cx="2296080" cy="1296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42" name=""/>
            <p:cNvCxnSpPr>
              <a:stCxn id="335" idx="3"/>
              <a:endCxn id="331" idx="1"/>
            </p:cNvCxnSpPr>
            <p:nvPr/>
          </p:nvCxnSpPr>
          <p:spPr>
            <a:xfrm>
              <a:off x="5543280" y="5402160"/>
              <a:ext cx="727560" cy="108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343" name=""/>
            <p:cNvGrpSpPr/>
            <p:nvPr/>
          </p:nvGrpSpPr>
          <p:grpSpPr>
            <a:xfrm>
              <a:off x="1295280" y="2819520"/>
              <a:ext cx="1676520" cy="576000"/>
              <a:chOff x="1295280" y="2819520"/>
              <a:chExt cx="1676520" cy="576000"/>
            </a:xfrm>
          </p:grpSpPr>
          <p:sp>
            <p:nvSpPr>
              <p:cNvPr id="340" name=""/>
              <p:cNvSpPr/>
              <p:nvPr/>
            </p:nvSpPr>
            <p:spPr>
              <a:xfrm>
                <a:off x="1295280" y="2819520"/>
                <a:ext cx="1676520" cy="576000"/>
              </a:xfrm>
              <a:prstGeom prst="roundRect">
                <a:avLst>
                  <a:gd name="adj" fmla="val 16755"/>
                </a:avLst>
              </a:prstGeom>
              <a:solidFill>
                <a:srgbClr val="bac5cc"/>
              </a:solidFill>
              <a:ln w="9360">
                <a:solidFill>
                  <a:srgbClr val="50505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327320" y="2850840"/>
                <a:ext cx="1612800" cy="51264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05051"/>
                    </a:solidFill>
                    <a:latin typeface="Times New Roman"/>
                  </a:rPr>
                  <a:t>Web Servic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3200400" y="2819520"/>
              <a:ext cx="1219320" cy="533160"/>
              <a:chOff x="3200400" y="2819520"/>
              <a:chExt cx="1219320" cy="533160"/>
            </a:xfrm>
          </p:grpSpPr>
          <p:sp>
            <p:nvSpPr>
              <p:cNvPr id="346" name=""/>
              <p:cNvSpPr/>
              <p:nvPr/>
            </p:nvSpPr>
            <p:spPr>
              <a:xfrm>
                <a:off x="3200400" y="2819520"/>
                <a:ext cx="1219320" cy="533160"/>
              </a:xfrm>
              <a:prstGeom prst="roundRect">
                <a:avLst>
                  <a:gd name="adj" fmla="val 16755"/>
                </a:avLst>
              </a:prstGeom>
              <a:solidFill>
                <a:srgbClr val="bac5cc"/>
              </a:solidFill>
              <a:ln w="9360">
                <a:solidFill>
                  <a:srgbClr val="50505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3440" y="2848680"/>
                <a:ext cx="1172880" cy="47448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05051"/>
                    </a:solidFill>
                    <a:latin typeface="Times New Roman"/>
                  </a:rPr>
                  <a:t>EJ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48" name=""/>
            <p:cNvCxnSpPr>
              <a:stCxn id="347" idx="2"/>
              <a:endCxn id="329" idx="0"/>
            </p:cNvCxnSpPr>
            <p:nvPr/>
          </p:nvCxnSpPr>
          <p:spPr>
            <a:xfrm flipH="1">
              <a:off x="3506040" y="3323880"/>
              <a:ext cx="305640" cy="1042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349" name=""/>
            <p:cNvGrpSpPr/>
            <p:nvPr/>
          </p:nvGrpSpPr>
          <p:grpSpPr>
            <a:xfrm>
              <a:off x="4572000" y="2819520"/>
              <a:ext cx="1219320" cy="533160"/>
              <a:chOff x="4572000" y="2819520"/>
              <a:chExt cx="1219320" cy="533160"/>
            </a:xfrm>
          </p:grpSpPr>
          <p:sp>
            <p:nvSpPr>
              <p:cNvPr id="350" name=""/>
              <p:cNvSpPr/>
              <p:nvPr/>
            </p:nvSpPr>
            <p:spPr>
              <a:xfrm>
                <a:off x="4572000" y="2819520"/>
                <a:ext cx="1219320" cy="533160"/>
              </a:xfrm>
              <a:prstGeom prst="roundRect">
                <a:avLst>
                  <a:gd name="adj" fmla="val 16755"/>
                </a:avLst>
              </a:prstGeom>
              <a:solidFill>
                <a:srgbClr val="bac5cc"/>
              </a:solidFill>
              <a:ln w="9360">
                <a:solidFill>
                  <a:srgbClr val="50505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595040" y="2848680"/>
                <a:ext cx="1172880" cy="47448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05051"/>
                    </a:solidFill>
                    <a:latin typeface="Times New Roman"/>
                  </a:rPr>
                  <a:t>JS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52" name=""/>
            <p:cNvCxnSpPr>
              <a:stCxn id="351" idx="2"/>
              <a:endCxn id="329" idx="0"/>
            </p:cNvCxnSpPr>
            <p:nvPr/>
          </p:nvCxnSpPr>
          <p:spPr>
            <a:xfrm flipH="1">
              <a:off x="3506040" y="3323880"/>
              <a:ext cx="1677240" cy="1042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353" name=""/>
            <p:cNvGrpSpPr/>
            <p:nvPr/>
          </p:nvGrpSpPr>
          <p:grpSpPr>
            <a:xfrm>
              <a:off x="5943600" y="2819520"/>
              <a:ext cx="1219320" cy="533160"/>
              <a:chOff x="5943600" y="2819520"/>
              <a:chExt cx="1219320" cy="533160"/>
            </a:xfrm>
          </p:grpSpPr>
          <p:sp>
            <p:nvSpPr>
              <p:cNvPr id="354" name=""/>
              <p:cNvSpPr/>
              <p:nvPr/>
            </p:nvSpPr>
            <p:spPr>
              <a:xfrm>
                <a:off x="5943600" y="2819520"/>
                <a:ext cx="1219320" cy="533160"/>
              </a:xfrm>
              <a:prstGeom prst="roundRect">
                <a:avLst>
                  <a:gd name="adj" fmla="val 16755"/>
                </a:avLst>
              </a:prstGeom>
              <a:solidFill>
                <a:srgbClr val="bac5cc"/>
              </a:solidFill>
              <a:ln w="9360">
                <a:solidFill>
                  <a:srgbClr val="50505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966640" y="2848680"/>
                <a:ext cx="1172880" cy="47448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05051"/>
                    </a:solidFill>
                    <a:latin typeface="Times New Roman"/>
                  </a:rPr>
                  <a:t>…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56" name=""/>
            <p:cNvCxnSpPr>
              <a:stCxn id="355" idx="2"/>
              <a:endCxn id="329" idx="0"/>
            </p:cNvCxnSpPr>
            <p:nvPr/>
          </p:nvCxnSpPr>
          <p:spPr>
            <a:xfrm flipH="1">
              <a:off x="3506040" y="3323880"/>
              <a:ext cx="3048840" cy="1042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57" name=""/>
            <p:cNvCxnSpPr>
              <a:stCxn id="344" idx="0"/>
              <a:endCxn id="358" idx="1"/>
            </p:cNvCxnSpPr>
            <p:nvPr/>
          </p:nvCxnSpPr>
          <p:spPr>
            <a:xfrm flipV="1">
              <a:off x="2134800" y="1523160"/>
              <a:ext cx="1599480" cy="1328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59" name=""/>
            <p:cNvCxnSpPr>
              <a:stCxn id="354" idx="0"/>
              <a:endCxn id="358" idx="3"/>
            </p:cNvCxnSpPr>
            <p:nvPr/>
          </p:nvCxnSpPr>
          <p:spPr>
            <a:xfrm flipH="1" flipV="1">
              <a:off x="5105160" y="1523160"/>
              <a:ext cx="1450080" cy="129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60" name=""/>
            <p:cNvCxnSpPr>
              <a:stCxn id="351" idx="0"/>
              <a:endCxn id="358" idx="2"/>
            </p:cNvCxnSpPr>
            <p:nvPr/>
          </p:nvCxnSpPr>
          <p:spPr>
            <a:xfrm flipH="1" flipV="1">
              <a:off x="4419000" y="2208960"/>
              <a:ext cx="764280" cy="640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61" name=""/>
            <p:cNvCxnSpPr>
              <a:stCxn id="346" idx="0"/>
              <a:endCxn id="358" idx="2"/>
            </p:cNvCxnSpPr>
            <p:nvPr/>
          </p:nvCxnSpPr>
          <p:spPr>
            <a:xfrm flipV="1">
              <a:off x="3811320" y="2209320"/>
              <a:ext cx="608760" cy="610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pic>
        <p:nvPicPr>
          <p:cNvPr id="362" name="gnome-fs-web" descr=""/>
          <p:cNvPicPr/>
          <p:nvPr/>
        </p:nvPicPr>
        <p:blipFill>
          <a:blip r:embed="rId1"/>
          <a:stretch/>
        </p:blipFill>
        <p:spPr>
          <a:xfrm>
            <a:off x="3733920" y="8380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6852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rchitecture Technique - Outi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240" y="1523520"/>
            <a:ext cx="77691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JDK 1.5, Aspect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Stru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Tomc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Kodo ou JPO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Oracle ou n’importe quelle B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SAXON/F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uce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Jcha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OAIC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43000" y="2751120"/>
            <a:ext cx="732600" cy="2975040"/>
            <a:chOff x="243000" y="2751120"/>
            <a:chExt cx="732600" cy="2975040"/>
          </a:xfrm>
        </p:grpSpPr>
        <p:sp>
          <p:nvSpPr>
            <p:cNvPr id="366" name=""/>
            <p:cNvSpPr/>
            <p:nvPr/>
          </p:nvSpPr>
          <p:spPr>
            <a:xfrm rot="16200000">
              <a:off x="-878400" y="3872520"/>
              <a:ext cx="2975040" cy="73188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16200000">
              <a:off x="-164880" y="4584960"/>
              <a:ext cx="1550160" cy="73116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3333cc"/>
                  </a:solidFill>
                  <a:latin typeface="Times New Roman"/>
                </a:rPr>
                <a:t>Outil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68528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rchitecture Technique - Outi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2240" y="1523520"/>
            <a:ext cx="77691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JUni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CVS Adullac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Maven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apport de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apport de couverture d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apport de mesure de complexité (Metri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Gestion des compil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243000" y="2751120"/>
            <a:ext cx="732600" cy="2975040"/>
            <a:chOff x="243000" y="2751120"/>
            <a:chExt cx="732600" cy="2975040"/>
          </a:xfrm>
        </p:grpSpPr>
        <p:sp>
          <p:nvSpPr>
            <p:cNvPr id="371" name=""/>
            <p:cNvSpPr/>
            <p:nvPr/>
          </p:nvSpPr>
          <p:spPr>
            <a:xfrm rot="16200000">
              <a:off x="-878400" y="3872520"/>
              <a:ext cx="2975040" cy="73188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6200000">
              <a:off x="-164880" y="4584960"/>
              <a:ext cx="1550160" cy="73116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3333cc"/>
                  </a:solidFill>
                  <a:latin typeface="Times New Roman"/>
                </a:rPr>
                <a:t>Outil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220320"/>
            <a:ext cx="76885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P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éthodolog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chéma Conceptu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actue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écoup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ut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41200" y="2408400"/>
            <a:ext cx="733680" cy="3319200"/>
            <a:chOff x="241200" y="2408400"/>
            <a:chExt cx="733680" cy="3319200"/>
          </a:xfrm>
        </p:grpSpPr>
        <p:sp>
          <p:nvSpPr>
            <p:cNvPr id="108" name=""/>
            <p:cNvSpPr/>
            <p:nvPr/>
          </p:nvSpPr>
          <p:spPr>
            <a:xfrm rot="16200000">
              <a:off x="-1052280" y="3701880"/>
              <a:ext cx="3319200" cy="73188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6200000">
              <a:off x="518400" y="5269320"/>
              <a:ext cx="181080" cy="731880"/>
            </a:xfrm>
            <a:custGeom>
              <a:avLst/>
              <a:gdLst/>
              <a:ahLst/>
              <a:rect l="l" t="t" r="r" b="b"/>
              <a:pathLst>
                <a:path w="21600" h="87171">
                  <a:moveTo>
                    <a:pt x="46" y="0"/>
                  </a:moveTo>
                  <a:arcTo wR="46" hR="46" stAng="16200000" swAng="-5400000"/>
                  <a:lnTo>
                    <a:pt x="0" y="87125"/>
                  </a:lnTo>
                  <a:arcTo wR="46" hR="46" stAng="10800000" swAng="-5400000"/>
                  <a:lnTo>
                    <a:pt x="21554" y="87171"/>
                  </a:lnTo>
                  <a:arcTo wR="46" hR="46" stAng="5400000" swAng="-5400000"/>
                  <a:lnTo>
                    <a:pt x="21600" y="46"/>
                  </a:lnTo>
                  <a:arcTo wR="46" hR="4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4920" y="220320"/>
            <a:ext cx="76885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’Agile Develop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80000"/>
              </a:lnSpc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éthodologie de développement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2240" indent="-279720">
              <a:lnSpc>
                <a:spcPct val="80000"/>
              </a:lnSpc>
              <a:spcBef>
                <a:spcPts val="1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érative (succession de mini-proj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2240" indent="-279720">
              <a:lnSpc>
                <a:spcPct val="80000"/>
              </a:lnSpc>
              <a:spcBef>
                <a:spcPts val="1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crémentale (Chacun de ces mini projets produit une partie du logicie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2240" indent="-279720">
              <a:lnSpc>
                <a:spcPct val="80000"/>
              </a:lnSpc>
              <a:spcBef>
                <a:spcPts val="1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ycles courts (2 semaines) et complets (avec Tests et recet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2240" indent="-279720">
              <a:lnSpc>
                <a:spcPct val="80000"/>
              </a:lnSpc>
              <a:spcBef>
                <a:spcPts val="1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tion d’intégration contin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2240" indent="-279720">
              <a:lnSpc>
                <a:spcPct val="80000"/>
              </a:lnSpc>
              <a:spcBef>
                <a:spcPts val="1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ime-box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2240" indent="-279720">
              <a:lnSpc>
                <a:spcPct val="80000"/>
              </a:lnSpc>
              <a:spcBef>
                <a:spcPts val="1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« Meilleures Pratiques » de L’Open-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41200" y="2403360"/>
            <a:ext cx="731160" cy="3323880"/>
            <a:chOff x="241200" y="2403360"/>
            <a:chExt cx="731160" cy="3323880"/>
          </a:xfrm>
        </p:grpSpPr>
        <p:sp>
          <p:nvSpPr>
            <p:cNvPr id="113" name=""/>
            <p:cNvSpPr/>
            <p:nvPr/>
          </p:nvSpPr>
          <p:spPr>
            <a:xfrm rot="16200000">
              <a:off x="-1052280" y="3700080"/>
              <a:ext cx="3317760" cy="73044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6200000">
              <a:off x="-1054800" y="3699720"/>
              <a:ext cx="3323880" cy="73116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3333cc"/>
                  </a:solidFill>
                  <a:latin typeface="Times New Roman"/>
                </a:rPr>
                <a:t>Méthodologie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4920" y="220320"/>
            <a:ext cx="76885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Cycle en 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15238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Branche fonctionnel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Modéliser les processus mét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éaliser les modè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Branche techniq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Choix des outil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Con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Point de fusion entre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cc00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a branche fonctionnel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cc00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a branche techniq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Produit un prototype utilis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562720" y="1670040"/>
            <a:ext cx="3581280" cy="339876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228600" y="2435760"/>
            <a:ext cx="762120" cy="3323880"/>
            <a:chOff x="228600" y="2435760"/>
            <a:chExt cx="762120" cy="3323880"/>
          </a:xfrm>
        </p:grpSpPr>
        <p:sp>
          <p:nvSpPr>
            <p:cNvPr id="119" name=""/>
            <p:cNvSpPr/>
            <p:nvPr/>
          </p:nvSpPr>
          <p:spPr>
            <a:xfrm rot="16200000">
              <a:off x="-1049760" y="3716640"/>
              <a:ext cx="3319200" cy="76212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-1067400" y="3732120"/>
              <a:ext cx="3323880" cy="731160"/>
            </a:xfrm>
            <a:prstGeom prst="roundRect">
              <a:avLst>
                <a:gd name="adj" fmla="val 2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Times New Roman"/>
                </a:rPr>
                <a:t>Méthodologie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381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Schéma conceptu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80880" y="990720"/>
            <a:ext cx="8763120" cy="5867280"/>
            <a:chOff x="380880" y="990720"/>
            <a:chExt cx="8763120" cy="5867280"/>
          </a:xfrm>
        </p:grpSpPr>
        <p:sp>
          <p:nvSpPr>
            <p:cNvPr id="123" name=""/>
            <p:cNvSpPr/>
            <p:nvPr/>
          </p:nvSpPr>
          <p:spPr>
            <a:xfrm>
              <a:off x="457200" y="2979720"/>
              <a:ext cx="1676520" cy="3878280"/>
            </a:xfrm>
            <a:custGeom>
              <a:avLst/>
              <a:gdLst>
                <a:gd name="textAreaLeft" fmla="*/ 360 w 1676520"/>
                <a:gd name="textAreaRight" fmla="*/ 1676160 w 1676520"/>
                <a:gd name="textAreaTop" fmla="*/ 360 h 3878280"/>
                <a:gd name="textAreaBottom" fmla="*/ 3877920 h 3878280"/>
              </a:gdLst>
              <a:ahLst/>
              <a:rect l="textAreaLeft" t="textAreaTop" r="textAreaRight" b="textAreaBottom"/>
              <a:pathLst>
                <a:path w="21600" h="49961">
                  <a:moveTo>
                    <a:pt x="20" y="0"/>
                  </a:moveTo>
                  <a:arcTo wR="20" hR="20" stAng="16200000" swAng="-5400000"/>
                  <a:lnTo>
                    <a:pt x="0" y="49941"/>
                  </a:lnTo>
                  <a:arcTo wR="20" hR="20" stAng="10800000" swAng="-5400000"/>
                  <a:lnTo>
                    <a:pt x="21580" y="49961"/>
                  </a:lnTo>
                  <a:arcTo wR="20" hR="20" stAng="5400000" swAng="-5400000"/>
                  <a:lnTo>
                    <a:pt x="21600" y="20"/>
                  </a:lnTo>
                  <a:arcTo wR="20" hR="20" stAng="0" swAng="-5400000"/>
                  <a:close/>
                </a:path>
              </a:pathLst>
            </a:custGeom>
            <a:solidFill>
              <a:srgbClr val="bdbdd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2120" y="990720"/>
              <a:ext cx="8381880" cy="1904760"/>
            </a:xfrm>
            <a:prstGeom prst="roundRect">
              <a:avLst>
                <a:gd name="adj" fmla="val 83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380880" y="1064880"/>
              <a:ext cx="8685360" cy="5733720"/>
              <a:chOff x="380880" y="1064880"/>
              <a:chExt cx="8685360" cy="5733720"/>
            </a:xfrm>
          </p:grpSpPr>
          <p:sp>
            <p:nvSpPr>
              <p:cNvPr id="126" name=""/>
              <p:cNvSpPr/>
              <p:nvPr/>
            </p:nvSpPr>
            <p:spPr>
              <a:xfrm>
                <a:off x="3429000" y="3687840"/>
                <a:ext cx="5257800" cy="2895480"/>
              </a:xfrm>
              <a:prstGeom prst="roundRect">
                <a:avLst>
                  <a:gd name="adj" fmla="val 51"/>
                </a:avLst>
              </a:prstGeom>
              <a:solidFill>
                <a:srgbClr val="9966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7543800" y="5668920"/>
                <a:ext cx="909720" cy="758880"/>
                <a:chOff x="7543800" y="5668920"/>
                <a:chExt cx="909720" cy="7588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7543800" y="5668920"/>
                  <a:ext cx="909720" cy="758880"/>
                </a:xfrm>
                <a:custGeom>
                  <a:avLst/>
                  <a:gdLst/>
                  <a:ahLst/>
                  <a:rect l="l" t="t" r="r" b="b"/>
                  <a:pathLst>
                    <a:path w="2532" h="2113">
                      <a:moveTo>
                        <a:pt x="0" y="331"/>
                      </a:moveTo>
                      <a:cubicBezTo>
                        <a:pt x="0" y="165"/>
                        <a:pt x="632" y="0"/>
                        <a:pt x="1265" y="0"/>
                      </a:cubicBezTo>
                      <a:cubicBezTo>
                        <a:pt x="1897" y="0"/>
                        <a:pt x="2531" y="165"/>
                        <a:pt x="2531" y="331"/>
                      </a:cubicBezTo>
                      <a:lnTo>
                        <a:pt x="2531" y="1779"/>
                      </a:lnTo>
                      <a:cubicBezTo>
                        <a:pt x="2531" y="1945"/>
                        <a:pt x="1897" y="2112"/>
                        <a:pt x="1265" y="2112"/>
                      </a:cubicBezTo>
                      <a:cubicBezTo>
                        <a:pt x="632" y="2112"/>
                        <a:pt x="0" y="1945"/>
                        <a:pt x="0" y="1779"/>
                      </a:cubicBezTo>
                      <a:lnTo>
                        <a:pt x="0" y="331"/>
                      </a:lnTo>
                    </a:path>
                  </a:pathLst>
                </a:custGeom>
                <a:solidFill>
                  <a:srgbClr val="bffafb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543800" y="5789160"/>
                  <a:ext cx="909720" cy="120240"/>
                </a:xfrm>
                <a:custGeom>
                  <a:avLst/>
                  <a:gdLst/>
                  <a:ahLst/>
                  <a:rect l="l" t="t" r="r" b="b"/>
                  <a:pathLst>
                    <a:path w="2532" h="335">
                      <a:moveTo>
                        <a:pt x="0" y="0"/>
                      </a:moveTo>
                      <a:cubicBezTo>
                        <a:pt x="0" y="166"/>
                        <a:pt x="632" y="334"/>
                        <a:pt x="1265" y="334"/>
                      </a:cubicBezTo>
                      <a:cubicBezTo>
                        <a:pt x="1897" y="334"/>
                        <a:pt x="2531" y="166"/>
                        <a:pt x="2531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7543800" y="5880600"/>
                <a:ext cx="912960" cy="459720"/>
                <a:chOff x="7543800" y="5880600"/>
                <a:chExt cx="912960" cy="45972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543800" y="5908680"/>
                  <a:ext cx="912960" cy="403200"/>
                </a:xfrm>
                <a:prstGeom prst="roundRect">
                  <a:avLst>
                    <a:gd name="adj" fmla="val 394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7543800" y="5880600"/>
                  <a:ext cx="912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5e5e8e"/>
                      </a:solidFill>
                      <a:latin typeface="Tahoma"/>
                    </a:rPr>
                    <a:t>B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7543800" y="5059440"/>
                <a:ext cx="909720" cy="760320"/>
                <a:chOff x="7543800" y="5059440"/>
                <a:chExt cx="909720" cy="7603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7543800" y="5059440"/>
                  <a:ext cx="909720" cy="760320"/>
                </a:xfrm>
                <a:custGeom>
                  <a:avLst/>
                  <a:gdLst/>
                  <a:ahLst/>
                  <a:rect l="l" t="t" r="r" b="b"/>
                  <a:pathLst>
                    <a:path w="2532" h="2117">
                      <a:moveTo>
                        <a:pt x="0" y="333"/>
                      </a:moveTo>
                      <a:cubicBezTo>
                        <a:pt x="0" y="166"/>
                        <a:pt x="632" y="0"/>
                        <a:pt x="1265" y="0"/>
                      </a:cubicBezTo>
                      <a:cubicBezTo>
                        <a:pt x="1897" y="0"/>
                        <a:pt x="2531" y="166"/>
                        <a:pt x="2531" y="333"/>
                      </a:cubicBezTo>
                      <a:lnTo>
                        <a:pt x="2531" y="1782"/>
                      </a:lnTo>
                      <a:cubicBezTo>
                        <a:pt x="2531" y="1949"/>
                        <a:pt x="1897" y="2116"/>
                        <a:pt x="1265" y="2116"/>
                      </a:cubicBezTo>
                      <a:cubicBezTo>
                        <a:pt x="632" y="2116"/>
                        <a:pt x="0" y="1949"/>
                        <a:pt x="0" y="1782"/>
                      </a:cubicBezTo>
                      <a:lnTo>
                        <a:pt x="0" y="333"/>
                      </a:lnTo>
                    </a:path>
                  </a:pathLst>
                </a:custGeom>
                <a:solidFill>
                  <a:srgbClr val="bffafb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543800" y="5178240"/>
                  <a:ext cx="909720" cy="120240"/>
                </a:xfrm>
                <a:custGeom>
                  <a:avLst/>
                  <a:gdLst/>
                  <a:ahLst/>
                  <a:rect l="l" t="t" r="r" b="b"/>
                  <a:pathLst>
                    <a:path w="2532" h="334">
                      <a:moveTo>
                        <a:pt x="0" y="0"/>
                      </a:moveTo>
                      <a:cubicBezTo>
                        <a:pt x="0" y="165"/>
                        <a:pt x="632" y="333"/>
                        <a:pt x="1265" y="333"/>
                      </a:cubicBezTo>
                      <a:cubicBezTo>
                        <a:pt x="1897" y="333"/>
                        <a:pt x="2531" y="165"/>
                        <a:pt x="2531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7543800" y="5271120"/>
                <a:ext cx="912960" cy="459720"/>
                <a:chOff x="7543800" y="5271120"/>
                <a:chExt cx="912960" cy="4597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7543800" y="5299200"/>
                  <a:ext cx="912960" cy="403200"/>
                </a:xfrm>
                <a:prstGeom prst="roundRect">
                  <a:avLst>
                    <a:gd name="adj" fmla="val 394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543800" y="5271120"/>
                  <a:ext cx="912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5e5e8e"/>
                      </a:solidFill>
                      <a:latin typeface="Tahoma"/>
                    </a:rPr>
                    <a:t>B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>
                <a:off x="3809880" y="6135840"/>
                <a:ext cx="3503880" cy="360360"/>
              </a:xfrm>
              <a:prstGeom prst="roundRect">
                <a:avLst>
                  <a:gd name="adj" fmla="val 440"/>
                </a:avLst>
              </a:prstGeom>
              <a:solidFill>
                <a:srgbClr val="bffa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3809880" y="6114960"/>
                <a:ext cx="3502080" cy="398880"/>
                <a:chOff x="3809880" y="6114960"/>
                <a:chExt cx="3502080" cy="3988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3809880" y="6135480"/>
                  <a:ext cx="3502080" cy="358560"/>
                </a:xfrm>
                <a:prstGeom prst="roundRect">
                  <a:avLst>
                    <a:gd name="adj" fmla="val 44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809880" y="6114960"/>
                  <a:ext cx="3502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e5e8e"/>
                      </a:solidFill>
                      <a:latin typeface="Tahoma"/>
                    </a:rPr>
                    <a:t>Documents XM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>
                <a:off x="2133720" y="4449600"/>
                <a:ext cx="1296720" cy="457200"/>
              </a:xfrm>
              <a:custGeom>
                <a:avLst/>
                <a:gdLst/>
                <a:ahLst/>
                <a:rect l="l" t="t" r="r" b="b"/>
                <a:pathLst>
                  <a:path w="3602" h="1271">
                    <a:moveTo>
                      <a:pt x="0" y="634"/>
                    </a:moveTo>
                    <a:lnTo>
                      <a:pt x="716" y="0"/>
                    </a:lnTo>
                    <a:lnTo>
                      <a:pt x="716" y="316"/>
                    </a:lnTo>
                    <a:lnTo>
                      <a:pt x="2884" y="316"/>
                    </a:lnTo>
                    <a:lnTo>
                      <a:pt x="2884" y="0"/>
                    </a:lnTo>
                    <a:lnTo>
                      <a:pt x="3601" y="634"/>
                    </a:lnTo>
                    <a:lnTo>
                      <a:pt x="2884" y="1270"/>
                    </a:lnTo>
                    <a:lnTo>
                      <a:pt x="2884" y="952"/>
                    </a:lnTo>
                    <a:lnTo>
                      <a:pt x="716" y="952"/>
                    </a:lnTo>
                    <a:lnTo>
                      <a:pt x="716" y="1270"/>
                    </a:lnTo>
                    <a:lnTo>
                      <a:pt x="0" y="634"/>
                    </a:lnTo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d1d1d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809880" y="4535640"/>
                <a:ext cx="3503880" cy="360360"/>
              </a:xfrm>
              <a:prstGeom prst="roundRect">
                <a:avLst>
                  <a:gd name="adj" fmla="val 440"/>
                </a:avLst>
              </a:prstGeom>
              <a:solidFill>
                <a:srgbClr val="bffa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3809880" y="4514760"/>
                <a:ext cx="3502080" cy="398880"/>
                <a:chOff x="3809880" y="4514760"/>
                <a:chExt cx="3502080" cy="3988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809880" y="4535280"/>
                  <a:ext cx="3502080" cy="358560"/>
                </a:xfrm>
                <a:prstGeom prst="roundRect">
                  <a:avLst>
                    <a:gd name="adj" fmla="val 44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809880" y="4514760"/>
                  <a:ext cx="3502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5e5e8e"/>
                      </a:solidFill>
                      <a:latin typeface="Tahoma"/>
                    </a:rPr>
                    <a:t>Meta-données étendu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" name=""/>
              <p:cNvSpPr/>
              <p:nvPr/>
            </p:nvSpPr>
            <p:spPr>
              <a:xfrm>
                <a:off x="3809880" y="5068800"/>
                <a:ext cx="3503880" cy="362160"/>
              </a:xfrm>
              <a:prstGeom prst="roundRect">
                <a:avLst>
                  <a:gd name="adj" fmla="val 435"/>
                </a:avLst>
              </a:prstGeom>
              <a:solidFill>
                <a:srgbClr val="bffa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3809880" y="5048280"/>
                <a:ext cx="3502080" cy="398880"/>
                <a:chOff x="3809880" y="5048280"/>
                <a:chExt cx="3502080" cy="39888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3809880" y="5068440"/>
                  <a:ext cx="3502080" cy="360720"/>
                </a:xfrm>
                <a:prstGeom prst="roundRect">
                  <a:avLst>
                    <a:gd name="adj" fmla="val 43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809880" y="5048280"/>
                  <a:ext cx="3502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5e5e8e"/>
                      </a:solidFill>
                      <a:latin typeface="Tahoma"/>
                    </a:rPr>
                    <a:t>Indexation du contenu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838080" y="2011320"/>
                <a:ext cx="2971800" cy="836640"/>
              </a:xfrm>
              <a:prstGeom prst="roundRect">
                <a:avLst>
                  <a:gd name="adj" fmla="val 190"/>
                </a:avLst>
              </a:prstGeom>
              <a:solidFill>
                <a:srgbClr val="bffafb"/>
              </a:solidFill>
              <a:ln w="9360">
                <a:solidFill>
                  <a:srgbClr val="bffa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" name=""/>
              <p:cNvGrpSpPr/>
              <p:nvPr/>
            </p:nvGrpSpPr>
            <p:grpSpPr>
              <a:xfrm>
                <a:off x="838080" y="2011320"/>
                <a:ext cx="2971080" cy="836640"/>
                <a:chOff x="838080" y="2011320"/>
                <a:chExt cx="2971080" cy="8366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838080" y="2011320"/>
                  <a:ext cx="2971080" cy="836640"/>
                </a:xfrm>
                <a:prstGeom prst="roundRect">
                  <a:avLst>
                    <a:gd name="adj" fmla="val 19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38080" y="2276640"/>
                  <a:ext cx="2971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3962520" y="2011320"/>
                <a:ext cx="1979640" cy="836640"/>
              </a:xfrm>
              <a:prstGeom prst="roundRect">
                <a:avLst>
                  <a:gd name="adj" fmla="val 190"/>
                </a:avLst>
              </a:prstGeom>
              <a:solidFill>
                <a:srgbClr val="bffafb"/>
              </a:solidFill>
              <a:ln w="9360">
                <a:solidFill>
                  <a:srgbClr val="bffa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3962520" y="1987200"/>
                <a:ext cx="1979640" cy="885240"/>
                <a:chOff x="3962520" y="1987200"/>
                <a:chExt cx="1979640" cy="88524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3962520" y="2011320"/>
                  <a:ext cx="1979640" cy="836640"/>
                </a:xfrm>
                <a:prstGeom prst="roundRect">
                  <a:avLst>
                    <a:gd name="adj" fmla="val 19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962520" y="1987200"/>
                  <a:ext cx="1979640" cy="88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5e5e8e"/>
                      </a:solidFill>
                      <a:latin typeface="Tahoma"/>
                    </a:rPr>
                    <a:t>Accès au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5e5e8e"/>
                      </a:solidFill>
                      <a:latin typeface="Tahoma"/>
                    </a:rPr>
                    <a:t> </a:t>
                  </a:r>
                  <a:r>
                    <a:rPr b="0" lang="fr-FR" sz="1400" spc="-1" strike="noStrike">
                      <a:solidFill>
                        <a:srgbClr val="5e5e8e"/>
                      </a:solidFill>
                      <a:latin typeface="Tahoma"/>
                    </a:rPr>
                    <a:t>documen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5e5e8e"/>
                      </a:solidFill>
                      <a:latin typeface="Tahoma"/>
                    </a:rPr>
                    <a:t>(recherche / consult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" name=""/>
              <p:cNvSpPr/>
              <p:nvPr/>
            </p:nvSpPr>
            <p:spPr>
              <a:xfrm>
                <a:off x="5410080" y="2925720"/>
                <a:ext cx="457200" cy="762120"/>
              </a:xfrm>
              <a:custGeom>
                <a:avLst/>
                <a:gdLst/>
                <a:ahLst/>
                <a:rect l="l" t="t" r="r" b="b"/>
                <a:pathLst>
                  <a:path w="1271" h="2118">
                    <a:moveTo>
                      <a:pt x="0" y="421"/>
                    </a:moveTo>
                    <a:lnTo>
                      <a:pt x="634" y="0"/>
                    </a:lnTo>
                    <a:lnTo>
                      <a:pt x="1270" y="421"/>
                    </a:lnTo>
                    <a:lnTo>
                      <a:pt x="952" y="421"/>
                    </a:lnTo>
                    <a:lnTo>
                      <a:pt x="952" y="1695"/>
                    </a:lnTo>
                    <a:lnTo>
                      <a:pt x="1270" y="1695"/>
                    </a:lnTo>
                    <a:lnTo>
                      <a:pt x="634" y="2117"/>
                    </a:lnTo>
                    <a:lnTo>
                      <a:pt x="0" y="1695"/>
                    </a:lnTo>
                    <a:lnTo>
                      <a:pt x="316" y="1695"/>
                    </a:lnTo>
                    <a:lnTo>
                      <a:pt x="316" y="421"/>
                    </a:lnTo>
                    <a:lnTo>
                      <a:pt x="0" y="421"/>
                    </a:lnTo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33520" y="3726000"/>
                <a:ext cx="1522440" cy="608040"/>
              </a:xfrm>
              <a:prstGeom prst="roundRect">
                <a:avLst>
                  <a:gd name="adj" fmla="val 259"/>
                </a:avLst>
              </a:prstGeom>
              <a:solidFill>
                <a:srgbClr val="7474a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533520" y="3726000"/>
                <a:ext cx="1522440" cy="608040"/>
                <a:chOff x="533520" y="3726000"/>
                <a:chExt cx="1522440" cy="6080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33520" y="3726000"/>
                  <a:ext cx="1522440" cy="608040"/>
                </a:xfrm>
                <a:prstGeom prst="roundRect">
                  <a:avLst>
                    <a:gd name="adj" fmla="val 25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33520" y="3799440"/>
                  <a:ext cx="1522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LDAP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" name=""/>
              <p:cNvSpPr/>
              <p:nvPr/>
            </p:nvSpPr>
            <p:spPr>
              <a:xfrm>
                <a:off x="533520" y="4411800"/>
                <a:ext cx="1522440" cy="608040"/>
              </a:xfrm>
              <a:prstGeom prst="roundRect">
                <a:avLst>
                  <a:gd name="adj" fmla="val 259"/>
                </a:avLst>
              </a:prstGeom>
              <a:solidFill>
                <a:srgbClr val="7474a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533520" y="4303080"/>
                <a:ext cx="1522440" cy="824040"/>
                <a:chOff x="533520" y="4303080"/>
                <a:chExt cx="1522440" cy="8240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533520" y="4411800"/>
                  <a:ext cx="1522440" cy="608040"/>
                </a:xfrm>
                <a:prstGeom prst="roundRect">
                  <a:avLst>
                    <a:gd name="adj" fmla="val 25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33520" y="4303080"/>
                  <a:ext cx="15224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Tahoma"/>
                    </a:rPr>
                    <a:t>Logicie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Tahoma"/>
                    </a:rPr>
                    <a:t>Documentair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3809880" y="5602320"/>
                <a:ext cx="3503880" cy="360360"/>
              </a:xfrm>
              <a:prstGeom prst="roundRect">
                <a:avLst>
                  <a:gd name="adj" fmla="val 440"/>
                </a:avLst>
              </a:prstGeom>
              <a:solidFill>
                <a:srgbClr val="bffa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3809880" y="5581440"/>
                <a:ext cx="3502080" cy="398880"/>
                <a:chOff x="3809880" y="5581440"/>
                <a:chExt cx="3502080" cy="39888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3809880" y="5601960"/>
                  <a:ext cx="3502080" cy="358560"/>
                </a:xfrm>
                <a:prstGeom prst="roundRect">
                  <a:avLst>
                    <a:gd name="adj" fmla="val 44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809880" y="5581440"/>
                  <a:ext cx="3502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5e5e8e"/>
                      </a:solidFill>
                      <a:latin typeface="Tahoma"/>
                    </a:rPr>
                    <a:t>Conversion multi-forma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>
                <a:off x="533520" y="5097600"/>
                <a:ext cx="1522440" cy="608040"/>
              </a:xfrm>
              <a:prstGeom prst="roundRect">
                <a:avLst>
                  <a:gd name="adj" fmla="val 259"/>
                </a:avLst>
              </a:prstGeom>
              <a:solidFill>
                <a:srgbClr val="7474a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533520" y="5097600"/>
                <a:ext cx="1522440" cy="608040"/>
                <a:chOff x="533520" y="5097600"/>
                <a:chExt cx="1522440" cy="6080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097600"/>
                  <a:ext cx="1522440" cy="608040"/>
                </a:xfrm>
                <a:prstGeom prst="roundRect">
                  <a:avLst>
                    <a:gd name="adj" fmla="val 25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33520" y="5110200"/>
                  <a:ext cx="15224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Tahoma"/>
                    </a:rPr>
                    <a:t>Serveu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Tahoma"/>
                    </a:rPr>
                    <a:t>Vidé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" name=""/>
              <p:cNvSpPr/>
              <p:nvPr/>
            </p:nvSpPr>
            <p:spPr>
              <a:xfrm>
                <a:off x="3809880" y="3840120"/>
                <a:ext cx="434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Tahoma"/>
                  </a:rPr>
                  <a:t>Bibliothèque Numériqu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019920" y="2011320"/>
                <a:ext cx="1674720" cy="836640"/>
              </a:xfrm>
              <a:prstGeom prst="roundRect">
                <a:avLst>
                  <a:gd name="adj" fmla="val 190"/>
                </a:avLst>
              </a:prstGeom>
              <a:solidFill>
                <a:srgbClr val="bffafb"/>
              </a:solidFill>
              <a:ln w="9360">
                <a:solidFill>
                  <a:srgbClr val="bffa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6019920" y="2011320"/>
                <a:ext cx="1674720" cy="836640"/>
                <a:chOff x="6019920" y="2011320"/>
                <a:chExt cx="1674720" cy="8366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6019920" y="2011320"/>
                  <a:ext cx="1674720" cy="836640"/>
                </a:xfrm>
                <a:prstGeom prst="roundRect">
                  <a:avLst>
                    <a:gd name="adj" fmla="val 19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019920" y="2078280"/>
                  <a:ext cx="1674720" cy="70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5e5e8e"/>
                      </a:solidFill>
                      <a:latin typeface="Tahoma"/>
                    </a:rPr>
                    <a:t>Gestion du systèm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5e5e8e"/>
                      </a:solidFill>
                      <a:latin typeface="Tahoma"/>
                    </a:rPr>
                    <a:t>(documentaliste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" name=""/>
              <p:cNvSpPr/>
              <p:nvPr/>
            </p:nvSpPr>
            <p:spPr>
              <a:xfrm>
                <a:off x="380880" y="633888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5e5e8e"/>
                    </a:solidFill>
                    <a:latin typeface="Tahoma"/>
                  </a:rPr>
                  <a:t>Extérieu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7543800" y="4525920"/>
                <a:ext cx="909720" cy="682560"/>
                <a:chOff x="7543800" y="4525920"/>
                <a:chExt cx="909720" cy="68256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7543800" y="4525920"/>
                  <a:ext cx="909720" cy="682560"/>
                </a:xfrm>
                <a:custGeom>
                  <a:avLst/>
                  <a:gdLst/>
                  <a:ahLst/>
                  <a:rect l="l" t="t" r="r" b="b"/>
                  <a:pathLst>
                    <a:path w="2532" h="1902">
                      <a:moveTo>
                        <a:pt x="0" y="298"/>
                      </a:moveTo>
                      <a:cubicBezTo>
                        <a:pt x="0" y="149"/>
                        <a:pt x="632" y="0"/>
                        <a:pt x="1265" y="0"/>
                      </a:cubicBezTo>
                      <a:cubicBezTo>
                        <a:pt x="1897" y="0"/>
                        <a:pt x="2531" y="149"/>
                        <a:pt x="2531" y="298"/>
                      </a:cubicBezTo>
                      <a:lnTo>
                        <a:pt x="2531" y="1601"/>
                      </a:lnTo>
                      <a:cubicBezTo>
                        <a:pt x="2531" y="1750"/>
                        <a:pt x="1897" y="1901"/>
                        <a:pt x="1265" y="1901"/>
                      </a:cubicBezTo>
                      <a:cubicBezTo>
                        <a:pt x="632" y="1901"/>
                        <a:pt x="0" y="1750"/>
                        <a:pt x="0" y="1601"/>
                      </a:cubicBezTo>
                      <a:lnTo>
                        <a:pt x="0" y="298"/>
                      </a:lnTo>
                    </a:path>
                  </a:pathLst>
                </a:custGeom>
                <a:solidFill>
                  <a:srgbClr val="bffafb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543800" y="4633560"/>
                  <a:ext cx="909720" cy="107640"/>
                </a:xfrm>
                <a:custGeom>
                  <a:avLst/>
                  <a:gdLst/>
                  <a:ahLst/>
                  <a:rect l="l" t="t" r="r" b="b"/>
                  <a:pathLst>
                    <a:path w="2532" h="299">
                      <a:moveTo>
                        <a:pt x="0" y="0"/>
                      </a:moveTo>
                      <a:cubicBezTo>
                        <a:pt x="0" y="149"/>
                        <a:pt x="632" y="298"/>
                        <a:pt x="1265" y="298"/>
                      </a:cubicBezTo>
                      <a:cubicBezTo>
                        <a:pt x="1897" y="298"/>
                        <a:pt x="2531" y="149"/>
                        <a:pt x="2531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7543800" y="4693320"/>
                <a:ext cx="912960" cy="459720"/>
                <a:chOff x="7543800" y="4693320"/>
                <a:chExt cx="912960" cy="4597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543800" y="4741920"/>
                  <a:ext cx="912960" cy="363600"/>
                </a:xfrm>
                <a:prstGeom prst="roundRect">
                  <a:avLst>
                    <a:gd name="adj" fmla="val 43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543800" y="4693320"/>
                  <a:ext cx="912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5e5e8e"/>
                      </a:solidFill>
                      <a:latin typeface="Tahoma"/>
                    </a:rPr>
                    <a:t>B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3276720" y="1096920"/>
                <a:ext cx="2360520" cy="836640"/>
              </a:xfrm>
              <a:prstGeom prst="roundRect">
                <a:avLst>
                  <a:gd name="adj" fmla="val 190"/>
                </a:avLst>
              </a:prstGeom>
              <a:solidFill>
                <a:srgbClr val="bffafb"/>
              </a:solidFill>
              <a:ln w="9360">
                <a:solidFill>
                  <a:srgbClr val="bffa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" name=""/>
              <p:cNvGrpSpPr/>
              <p:nvPr/>
            </p:nvGrpSpPr>
            <p:grpSpPr>
              <a:xfrm>
                <a:off x="3276720" y="1096920"/>
                <a:ext cx="2360520" cy="836640"/>
                <a:chOff x="3276720" y="1096920"/>
                <a:chExt cx="2360520" cy="83664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3276720" y="1096920"/>
                  <a:ext cx="2360520" cy="836640"/>
                </a:xfrm>
                <a:prstGeom prst="roundRect">
                  <a:avLst>
                    <a:gd name="adj" fmla="val 19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276720" y="1148040"/>
                  <a:ext cx="236052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5e5e8e"/>
                      </a:solidFill>
                      <a:latin typeface="Tahoma"/>
                    </a:rPr>
                    <a:t>Gestion de ses documents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5e5e8e"/>
                      </a:solidFill>
                      <a:latin typeface="Tahoma"/>
                    </a:rPr>
                    <a:t>(personnels et partagés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" name=""/>
              <p:cNvSpPr/>
              <p:nvPr/>
            </p:nvSpPr>
            <p:spPr>
              <a:xfrm>
                <a:off x="838080" y="1096920"/>
                <a:ext cx="2360880" cy="836640"/>
              </a:xfrm>
              <a:prstGeom prst="roundRect">
                <a:avLst>
                  <a:gd name="adj" fmla="val 190"/>
                </a:avLst>
              </a:prstGeom>
              <a:solidFill>
                <a:srgbClr val="bffafb"/>
              </a:solidFill>
              <a:ln w="9360">
                <a:solidFill>
                  <a:srgbClr val="bffa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838080" y="1096920"/>
                <a:ext cx="2360880" cy="836640"/>
                <a:chOff x="838080" y="1096920"/>
                <a:chExt cx="2360880" cy="8366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838080" y="1096920"/>
                  <a:ext cx="2360880" cy="836640"/>
                </a:xfrm>
                <a:prstGeom prst="roundRect">
                  <a:avLst>
                    <a:gd name="adj" fmla="val 19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838080" y="1148040"/>
                  <a:ext cx="236088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5e5e8e"/>
                      </a:solidFill>
                      <a:latin typeface="Tahoma"/>
                    </a:rPr>
                    <a:t>Gestion de collection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5e5e8e"/>
                      </a:solidFill>
                      <a:latin typeface="Tahoma"/>
                    </a:rPr>
                    <a:t>(personnelles et partagées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5791320" y="1146240"/>
                <a:ext cx="2284200" cy="785880"/>
              </a:xfrm>
              <a:prstGeom prst="roundRect">
                <a:avLst>
                  <a:gd name="adj" fmla="val 213"/>
                </a:avLst>
              </a:prstGeom>
              <a:solidFill>
                <a:srgbClr val="bffafb"/>
              </a:solidFill>
              <a:ln w="9360">
                <a:solidFill>
                  <a:srgbClr val="bffa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791320" y="1064880"/>
                <a:ext cx="2284200" cy="946440"/>
                <a:chOff x="5791320" y="1064880"/>
                <a:chExt cx="2284200" cy="946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791320" y="1145520"/>
                  <a:ext cx="2284200" cy="786600"/>
                </a:xfrm>
                <a:prstGeom prst="roundRect">
                  <a:avLst>
                    <a:gd name="adj" fmla="val 213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791320" y="1064880"/>
                  <a:ext cx="228420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 anchorCtr="1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5e5e8e"/>
                      </a:solidFill>
                      <a:latin typeface="Tahoma"/>
                    </a:rPr>
                    <a:t>Infos personnalisées</a:t>
                  </a:r>
                  <a:br>
                    <a:rPr sz="1400"/>
                  </a:br>
                  <a:r>
                    <a:rPr b="0" lang="fr-FR" sz="1400" spc="-1" strike="noStrike">
                      <a:solidFill>
                        <a:srgbClr val="5e5e8e"/>
                      </a:solidFill>
                      <a:latin typeface="Tahoma"/>
                    </a:rPr>
                    <a:t>(profil, étudiant ou personne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5e5e8e"/>
                      </a:solidFill>
                      <a:latin typeface="Tahoma"/>
                    </a:rPr>
                    <a:t>services dédiés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" name=""/>
              <p:cNvSpPr/>
              <p:nvPr/>
            </p:nvSpPr>
            <p:spPr>
              <a:xfrm>
                <a:off x="533520" y="5783400"/>
                <a:ext cx="1522440" cy="608040"/>
              </a:xfrm>
              <a:prstGeom prst="roundRect">
                <a:avLst>
                  <a:gd name="adj" fmla="val 259"/>
                </a:avLst>
              </a:prstGeom>
              <a:solidFill>
                <a:srgbClr val="7474a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2" name=""/>
              <p:cNvGrpSpPr/>
              <p:nvPr/>
            </p:nvGrpSpPr>
            <p:grpSpPr>
              <a:xfrm>
                <a:off x="533520" y="5783400"/>
                <a:ext cx="1522440" cy="608040"/>
                <a:chOff x="533520" y="5783400"/>
                <a:chExt cx="1522440" cy="60804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533520" y="5783400"/>
                  <a:ext cx="1522440" cy="608040"/>
                </a:xfrm>
                <a:prstGeom prst="roundRect">
                  <a:avLst>
                    <a:gd name="adj" fmla="val 25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33520" y="5796000"/>
                  <a:ext cx="15224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000000"/>
                      </a:solidFill>
                      <a:latin typeface="Tahoma"/>
                    </a:rPr>
                    <a:t>Meta</a:t>
                  </a:r>
                  <a:br>
                    <a:rPr sz="1600"/>
                  </a:br>
                  <a:r>
                    <a:rPr b="0" lang="fr-FR" sz="1600" spc="-1" strike="noStrike">
                      <a:solidFill>
                        <a:srgbClr val="000000"/>
                      </a:solidFill>
                      <a:latin typeface="Tahoma"/>
                    </a:rPr>
                    <a:t>Moteu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7772400" y="2058840"/>
                <a:ext cx="1293840" cy="741600"/>
              </a:xfrm>
              <a:prstGeom prst="roundRect">
                <a:avLst>
                  <a:gd name="adj" fmla="val 213"/>
                </a:avLst>
              </a:prstGeom>
              <a:solidFill>
                <a:srgbClr val="bffafb"/>
              </a:solidFill>
              <a:ln w="9360">
                <a:solidFill>
                  <a:srgbClr val="bffa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7772400" y="1955880"/>
                <a:ext cx="1293840" cy="946440"/>
                <a:chOff x="7772400" y="1955880"/>
                <a:chExt cx="1293840" cy="94644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7772400" y="2058840"/>
                  <a:ext cx="1293840" cy="741600"/>
                </a:xfrm>
                <a:prstGeom prst="roundRect">
                  <a:avLst>
                    <a:gd name="adj" fmla="val 213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772400" y="1955880"/>
                  <a:ext cx="1293840" cy="94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e5e8e"/>
                      </a:solidFill>
                      <a:latin typeface="Tahoma"/>
                    </a:rPr>
                    <a:t>Gestion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e5e8e"/>
                      </a:solidFill>
                      <a:latin typeface="Tahoma"/>
                    </a:rPr>
                    <a:t>de Version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" name=""/>
              <p:cNvSpPr/>
              <p:nvPr/>
            </p:nvSpPr>
            <p:spPr>
              <a:xfrm>
                <a:off x="8153280" y="1096920"/>
                <a:ext cx="912960" cy="836640"/>
              </a:xfrm>
              <a:prstGeom prst="roundRect">
                <a:avLst>
                  <a:gd name="adj" fmla="val 190"/>
                </a:avLst>
              </a:prstGeom>
              <a:solidFill>
                <a:srgbClr val="bffafb"/>
              </a:solidFill>
              <a:ln w="9360">
                <a:solidFill>
                  <a:srgbClr val="bffa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8153280" y="1096920"/>
                <a:ext cx="912960" cy="836640"/>
                <a:chOff x="8153280" y="1096920"/>
                <a:chExt cx="912960" cy="8366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8153280" y="1096920"/>
                  <a:ext cx="912960" cy="836640"/>
                </a:xfrm>
                <a:prstGeom prst="roundRect">
                  <a:avLst>
                    <a:gd name="adj" fmla="val 190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153280" y="1148040"/>
                  <a:ext cx="91296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5e5e8e"/>
                      </a:solidFill>
                      <a:latin typeface="Tahoma"/>
                    </a:rPr>
                    <a:t>Avi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550800" y="3043080"/>
                <a:ext cx="1522440" cy="608040"/>
              </a:xfrm>
              <a:prstGeom prst="roundRect">
                <a:avLst>
                  <a:gd name="adj" fmla="val 259"/>
                </a:avLst>
              </a:prstGeom>
              <a:solidFill>
                <a:srgbClr val="7474a2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4" name=""/>
              <p:cNvGrpSpPr/>
              <p:nvPr/>
            </p:nvGrpSpPr>
            <p:grpSpPr>
              <a:xfrm>
                <a:off x="550800" y="3043080"/>
                <a:ext cx="1522440" cy="608040"/>
                <a:chOff x="550800" y="3043080"/>
                <a:chExt cx="1522440" cy="60804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550800" y="3043080"/>
                  <a:ext cx="1522440" cy="608040"/>
                </a:xfrm>
                <a:prstGeom prst="roundRect">
                  <a:avLst>
                    <a:gd name="adj" fmla="val 25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50800" y="3116880"/>
                  <a:ext cx="1522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LCM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2514600" y="1981080"/>
                <a:ext cx="129528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30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fr-FR" sz="1200" spc="-1" strike="noStrike">
                    <a:solidFill>
                      <a:srgbClr val="5e5e8e"/>
                    </a:solidFill>
                    <a:latin typeface="Times New Roman"/>
                  </a:rPr>
                  <a:t>Validation suivant le type de docu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133720" y="1981080"/>
                <a:ext cx="38088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30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fr-FR" sz="1200" spc="-1" strike="noStrike">
                    <a:solidFill>
                      <a:srgbClr val="5e5e8e"/>
                    </a:solidFill>
                    <a:latin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38080" y="1981080"/>
                <a:ext cx="1295640" cy="91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spcBef>
                    <a:spcPts val="300"/>
                  </a:spcBef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0" lang="fr-FR" sz="1200" spc="-1" strike="noStrike">
                    <a:solidFill>
                      <a:srgbClr val="5e5e8e"/>
                    </a:solidFill>
                    <a:latin typeface="Times New Roman"/>
                  </a:rPr>
                  <a:t>Soumission de docu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38080" y="1981080"/>
                <a:ext cx="12956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38080" y="2895480"/>
                <a:ext cx="129564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38080" y="1981080"/>
                <a:ext cx="0" cy="914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809880" y="1981080"/>
                <a:ext cx="0" cy="914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133720" y="1981080"/>
                <a:ext cx="3808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133720" y="2895480"/>
                <a:ext cx="3808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514600" y="1981080"/>
                <a:ext cx="12952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514600" y="2895480"/>
                <a:ext cx="12952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8216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Architecture technique Actuell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914400" y="1219320"/>
            <a:ext cx="8076960" cy="5039640"/>
            <a:chOff x="914400" y="1219320"/>
            <a:chExt cx="8076960" cy="5039640"/>
          </a:xfrm>
        </p:grpSpPr>
        <p:sp>
          <p:nvSpPr>
            <p:cNvPr id="230" name=""/>
            <p:cNvSpPr/>
            <p:nvPr/>
          </p:nvSpPr>
          <p:spPr>
            <a:xfrm>
              <a:off x="7696080" y="5867280"/>
              <a:ext cx="125280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505051"/>
                  </a:solidFill>
                  <a:latin typeface="Arial"/>
                </a:rPr>
                <a:t>SGB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772400" y="4756320"/>
              <a:ext cx="1143000" cy="1447560"/>
            </a:xfrm>
            <a:custGeom>
              <a:avLst/>
              <a:gdLst>
                <a:gd name="textAreaLeft" fmla="*/ 360 w 1143000"/>
                <a:gd name="textAreaRight" fmla="*/ 1142640 w 1143000"/>
                <a:gd name="textAreaTop" fmla="*/ 360 h 1447560"/>
                <a:gd name="textAreaBottom" fmla="*/ 1447200 h 1447560"/>
              </a:gdLst>
              <a:ahLst/>
              <a:rect l="textAreaLeft" t="textAreaTop" r="textAreaRight" b="textAreaBottom"/>
              <a:pathLst>
                <a:path w="21600" h="27354">
                  <a:moveTo>
                    <a:pt x="30" y="0"/>
                  </a:moveTo>
                  <a:arcTo wR="30" hR="30" stAng="16200000" swAng="-5400000"/>
                  <a:lnTo>
                    <a:pt x="0" y="27324"/>
                  </a:lnTo>
                  <a:arcTo wR="30" hR="30" stAng="10800000" swAng="-5400000"/>
                  <a:lnTo>
                    <a:pt x="21570" y="27354"/>
                  </a:lnTo>
                  <a:arcTo wR="30" hR="30" stAng="5400000" swAng="-5400000"/>
                  <a:lnTo>
                    <a:pt x="21600" y="30"/>
                  </a:lnTo>
                  <a:arcTo wR="30" hR="30" stAng="0" swAng="-5400000"/>
                  <a:close/>
                </a:path>
              </a:pathLst>
            </a:custGeom>
            <a:noFill/>
            <a:ln w="936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7010280" y="3581280"/>
              <a:ext cx="1981080" cy="762120"/>
              <a:chOff x="7010280" y="3581280"/>
              <a:chExt cx="1981080" cy="762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010280" y="3581280"/>
                <a:ext cx="1981080" cy="762120"/>
              </a:xfrm>
              <a:prstGeom prst="roundRect">
                <a:avLst>
                  <a:gd name="adj" fmla="val 208"/>
                </a:avLst>
              </a:prstGeom>
              <a:noFill/>
              <a:ln w="936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010280" y="3581280"/>
                <a:ext cx="1981080" cy="762120"/>
              </a:xfrm>
              <a:prstGeom prst="roundRect">
                <a:avLst>
                  <a:gd name="adj" fmla="val 20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00"/>
                    </a:solidFill>
                    <a:latin typeface="Times New Roman"/>
                  </a:rPr>
                  <a:t>Système de fichier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848720" y="4800600"/>
              <a:ext cx="985680" cy="1014120"/>
              <a:chOff x="7848720" y="4800600"/>
              <a:chExt cx="985680" cy="1014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848720" y="5008320"/>
                <a:ext cx="985680" cy="555840"/>
              </a:xfrm>
              <a:prstGeom prst="roundRect">
                <a:avLst>
                  <a:gd name="adj" fmla="val 282"/>
                </a:avLst>
              </a:prstGeom>
              <a:gradFill rotWithShape="0">
                <a:gsLst>
                  <a:gs pos="0">
                    <a:srgbClr val="658374"/>
                  </a:gs>
                  <a:gs pos="50000">
                    <a:srgbClr val="9bafa5"/>
                  </a:gs>
                  <a:gs pos="100000">
                    <a:srgbClr val="65837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848720" y="4800600"/>
                <a:ext cx="980640" cy="478800"/>
              </a:xfrm>
              <a:prstGeom prst="ellipse">
                <a:avLst/>
              </a:prstGeom>
              <a:gradFill rotWithShape="0">
                <a:gsLst>
                  <a:gs pos="0">
                    <a:srgbClr val="9bafa5"/>
                  </a:gs>
                  <a:gs pos="100000">
                    <a:srgbClr val="65837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48720" y="5335920"/>
                <a:ext cx="980640" cy="478800"/>
              </a:xfrm>
              <a:prstGeom prst="ellipse">
                <a:avLst/>
              </a:prstGeom>
              <a:gradFill rotWithShape="0">
                <a:gsLst>
                  <a:gs pos="0">
                    <a:srgbClr val="658374"/>
                  </a:gs>
                  <a:gs pos="50000">
                    <a:srgbClr val="9bafa5"/>
                  </a:gs>
                  <a:gs pos="100000">
                    <a:srgbClr val="65837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990720" y="2819520"/>
              <a:ext cx="5790960" cy="3200400"/>
              <a:chOff x="990720" y="2819520"/>
              <a:chExt cx="5790960" cy="3200400"/>
            </a:xfrm>
          </p:grpSpPr>
          <p:sp>
            <p:nvSpPr>
              <p:cNvPr id="240" name=""/>
              <p:cNvSpPr/>
              <p:nvPr/>
            </p:nvSpPr>
            <p:spPr>
              <a:xfrm>
                <a:off x="990720" y="2819520"/>
                <a:ext cx="5790960" cy="3200400"/>
              </a:xfrm>
              <a:prstGeom prst="roundRect">
                <a:avLst>
                  <a:gd name="adj" fmla="val 42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990720" y="2819520"/>
                <a:ext cx="5790960" cy="44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Serveur d’applic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Conteneur WE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048120" y="4572000"/>
              <a:ext cx="1830240" cy="406440"/>
              <a:chOff x="3048120" y="4572000"/>
              <a:chExt cx="1830240" cy="406440"/>
            </a:xfrm>
          </p:grpSpPr>
          <p:sp>
            <p:nvSpPr>
              <p:cNvPr id="243" name=""/>
              <p:cNvSpPr/>
              <p:nvPr/>
            </p:nvSpPr>
            <p:spPr>
              <a:xfrm>
                <a:off x="3048120" y="4572000"/>
                <a:ext cx="1830240" cy="406440"/>
              </a:xfrm>
              <a:prstGeom prst="roundRect">
                <a:avLst>
                  <a:gd name="adj" fmla="val 16796"/>
                </a:avLst>
              </a:prstGeom>
              <a:solidFill>
                <a:srgbClr val="99ccff"/>
              </a:solidFill>
              <a:ln w="9360">
                <a:solidFill>
                  <a:srgbClr val="50505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070080" y="4593960"/>
                <a:ext cx="1785600" cy="361800"/>
              </a:xfrm>
              <a:prstGeom prst="roundRect">
                <a:avLst>
                  <a:gd name="adj" fmla="val 43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Modul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6270480" y="5091120"/>
              <a:ext cx="990720" cy="546120"/>
              <a:chOff x="6270480" y="5091120"/>
              <a:chExt cx="990720" cy="546120"/>
            </a:xfrm>
          </p:grpSpPr>
          <p:sp>
            <p:nvSpPr>
              <p:cNvPr id="246" name=""/>
              <p:cNvSpPr/>
              <p:nvPr/>
            </p:nvSpPr>
            <p:spPr>
              <a:xfrm>
                <a:off x="6270480" y="5091120"/>
                <a:ext cx="990720" cy="546120"/>
              </a:xfrm>
              <a:custGeom>
                <a:avLst/>
                <a:gdLst/>
                <a:ahLst/>
                <a:rect l="l" t="t" r="r" b="b"/>
                <a:pathLst>
                  <a:path w="2750" h="1518">
                    <a:moveTo>
                      <a:pt x="351" y="0"/>
                    </a:moveTo>
                    <a:lnTo>
                      <a:pt x="2397" y="0"/>
                    </a:lnTo>
                    <a:lnTo>
                      <a:pt x="2749" y="351"/>
                    </a:lnTo>
                    <a:lnTo>
                      <a:pt x="2749" y="1166"/>
                    </a:lnTo>
                    <a:lnTo>
                      <a:pt x="2397" y="1517"/>
                    </a:lnTo>
                    <a:lnTo>
                      <a:pt x="351" y="1517"/>
                    </a:lnTo>
                    <a:lnTo>
                      <a:pt x="0" y="1166"/>
                    </a:lnTo>
                    <a:lnTo>
                      <a:pt x="0" y="351"/>
                    </a:lnTo>
                    <a:lnTo>
                      <a:pt x="351" y="0"/>
                    </a:lnTo>
                  </a:path>
                </a:pathLst>
              </a:custGeom>
              <a:solidFill>
                <a:srgbClr val="cc99ff"/>
              </a:solidFill>
              <a:ln w="9360">
                <a:solidFill>
                  <a:srgbClr val="5050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395400" y="5144040"/>
                <a:ext cx="739080" cy="442080"/>
              </a:xfrm>
              <a:prstGeom prst="roundRect">
                <a:avLst>
                  <a:gd name="adj" fmla="val 37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JD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2819520" y="1295280"/>
              <a:ext cx="581040" cy="4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914400" y="1219320"/>
              <a:ext cx="2590920" cy="1295280"/>
            </a:xfrm>
            <a:prstGeom prst="roundRect">
              <a:avLst>
                <a:gd name="adj" fmla="val 181"/>
              </a:avLst>
            </a:prstGeom>
            <a:noFill/>
            <a:ln w="936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37320" y="2209680"/>
              <a:ext cx="1294560" cy="250560"/>
            </a:xfrm>
            <a:prstGeom prst="roundRect">
              <a:avLst>
                <a:gd name="adj" fmla="val 60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2760" bIns="3276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505051"/>
                  </a:solidFill>
                  <a:latin typeface="Arial"/>
                </a:rPr>
                <a:t>Administr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90720" y="1251000"/>
              <a:ext cx="167616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505051"/>
                  </a:solidFill>
                  <a:latin typeface="Arial"/>
                </a:rPr>
                <a:t>Gestion du systèm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505051"/>
                  </a:solidFill>
                  <a:latin typeface="Arial"/>
                </a:rPr>
                <a:t>Validation des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300" spc="-1" strike="noStrike">
                  <a:solidFill>
                    <a:srgbClr val="505051"/>
                  </a:solidFill>
                  <a:latin typeface="Arial"/>
                </a:rPr>
                <a:t>documents</a:t>
              </a:r>
              <a:br>
                <a:rPr sz="1200"/>
              </a:b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2"/>
            <a:stretch/>
          </p:blipFill>
          <p:spPr>
            <a:xfrm>
              <a:off x="6172200" y="1295280"/>
              <a:ext cx="604800" cy="4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3809880" y="1219320"/>
              <a:ext cx="3124440" cy="1295280"/>
            </a:xfrm>
            <a:prstGeom prst="roundRect">
              <a:avLst>
                <a:gd name="adj" fmla="val 181"/>
              </a:avLst>
            </a:prstGeom>
            <a:noFill/>
            <a:ln w="9360">
              <a:solidFill>
                <a:srgbClr val="ff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05080" y="2133720"/>
              <a:ext cx="1029240" cy="250560"/>
            </a:xfrm>
            <a:prstGeom prst="roundRect">
              <a:avLst>
                <a:gd name="adj" fmla="val 60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880" rIns="65880" tIns="32760" bIns="3276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505051"/>
                  </a:solidFill>
                  <a:latin typeface="Arial"/>
                </a:rPr>
                <a:t>Utilisateur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09880" y="1295280"/>
              <a:ext cx="2133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505051"/>
                  </a:solidFill>
                  <a:latin typeface="Arial"/>
                </a:rPr>
                <a:t>Visualisation des documen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505051"/>
                  </a:solidFill>
                  <a:latin typeface="Arial"/>
                </a:rPr>
                <a:t>Recherche de documen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505051"/>
                  </a:solidFill>
                  <a:latin typeface="Arial"/>
                </a:rPr>
                <a:t>Soumission de documen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4114800" y="5562720"/>
              <a:ext cx="1655640" cy="287280"/>
              <a:chOff x="4114800" y="5562720"/>
              <a:chExt cx="1655640" cy="287280"/>
            </a:xfrm>
          </p:grpSpPr>
          <p:sp>
            <p:nvSpPr>
              <p:cNvPr id="257" name=""/>
              <p:cNvSpPr/>
              <p:nvPr/>
            </p:nvSpPr>
            <p:spPr>
              <a:xfrm>
                <a:off x="4114800" y="5562720"/>
                <a:ext cx="1655640" cy="287280"/>
              </a:xfrm>
              <a:prstGeom prst="roundRect">
                <a:avLst>
                  <a:gd name="adj" fmla="val 546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114800" y="5562720"/>
                <a:ext cx="1655640" cy="287280"/>
              </a:xfrm>
              <a:prstGeom prst="roundRect">
                <a:avLst>
                  <a:gd name="adj" fmla="val 54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OJO*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5411880" y="6019920"/>
              <a:ext cx="1356480" cy="239040"/>
            </a:xfrm>
            <a:prstGeom prst="roundRect">
              <a:avLst>
                <a:gd name="adj" fmla="val 64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*Plain Old Java Obj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49" idx="2"/>
              <a:endCxn id="261" idx="0"/>
            </p:cNvCxnSpPr>
            <p:nvPr/>
          </p:nvCxnSpPr>
          <p:spPr>
            <a:xfrm>
              <a:off x="2209320" y="2514600"/>
              <a:ext cx="175500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2" name=""/>
            <p:cNvCxnSpPr>
              <a:stCxn id="246" idx="0"/>
              <a:endCxn id="231" idx="1"/>
            </p:cNvCxnSpPr>
            <p:nvPr/>
          </p:nvCxnSpPr>
          <p:spPr>
            <a:xfrm flipV="1">
              <a:off x="7261200" y="5479920"/>
              <a:ext cx="511920" cy="30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3" name=""/>
            <p:cNvCxnSpPr>
              <a:stCxn id="243" idx="2"/>
              <a:endCxn id="257" idx="0"/>
            </p:cNvCxnSpPr>
            <p:nvPr/>
          </p:nvCxnSpPr>
          <p:spPr>
            <a:xfrm>
              <a:off x="3963600" y="4979520"/>
              <a:ext cx="980280" cy="583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4" name=""/>
            <p:cNvCxnSpPr>
              <a:stCxn id="265" idx="2"/>
              <a:endCxn id="243" idx="0"/>
            </p:cNvCxnSpPr>
            <p:nvPr/>
          </p:nvCxnSpPr>
          <p:spPr>
            <a:xfrm>
              <a:off x="3963600" y="4006800"/>
              <a:ext cx="1080" cy="565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6" name=""/>
            <p:cNvCxnSpPr>
              <a:stCxn id="258" idx="0"/>
              <a:endCxn id="234" idx="1"/>
            </p:cNvCxnSpPr>
            <p:nvPr/>
          </p:nvCxnSpPr>
          <p:spPr>
            <a:xfrm flipV="1">
              <a:off x="4943160" y="3961800"/>
              <a:ext cx="2067120" cy="1600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7" name=""/>
            <p:cNvCxnSpPr>
              <a:stCxn id="258" idx="3"/>
              <a:endCxn id="246" idx="1"/>
            </p:cNvCxnSpPr>
            <p:nvPr/>
          </p:nvCxnSpPr>
          <p:spPr>
            <a:xfrm flipV="1">
              <a:off x="5772240" y="5509440"/>
              <a:ext cx="498960" cy="19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" name=""/>
            <p:cNvCxnSpPr>
              <a:stCxn id="253" idx="2"/>
              <a:endCxn id="261" idx="0"/>
            </p:cNvCxnSpPr>
            <p:nvPr/>
          </p:nvCxnSpPr>
          <p:spPr>
            <a:xfrm flipH="1">
              <a:off x="3963600" y="2514600"/>
              <a:ext cx="140904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269" name=""/>
            <p:cNvGrpSpPr/>
            <p:nvPr/>
          </p:nvGrpSpPr>
          <p:grpSpPr>
            <a:xfrm>
              <a:off x="2590920" y="3429000"/>
              <a:ext cx="2742840" cy="576360"/>
              <a:chOff x="2590920" y="3429000"/>
              <a:chExt cx="2742840" cy="576360"/>
            </a:xfrm>
          </p:grpSpPr>
          <p:sp>
            <p:nvSpPr>
              <p:cNvPr id="265" name=""/>
              <p:cNvSpPr/>
              <p:nvPr/>
            </p:nvSpPr>
            <p:spPr>
              <a:xfrm>
                <a:off x="2590920" y="3429000"/>
                <a:ext cx="2742840" cy="576360"/>
              </a:xfrm>
              <a:prstGeom prst="roundRect">
                <a:avLst>
                  <a:gd name="adj" fmla="val 16755"/>
                </a:avLst>
              </a:prstGeom>
              <a:solidFill>
                <a:srgbClr val="bac5cc"/>
              </a:solidFill>
              <a:ln w="9360">
                <a:solidFill>
                  <a:srgbClr val="50505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643120" y="3460320"/>
                <a:ext cx="2638440" cy="513000"/>
              </a:xfrm>
              <a:prstGeom prst="roundRect">
                <a:avLst>
                  <a:gd name="adj" fmla="val 3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05051"/>
                    </a:solidFill>
                    <a:latin typeface="Times New Roman"/>
                  </a:rPr>
                  <a:t>JSP &amp; XSLT &amp; Applets &amp; Servle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0" name=""/>
          <p:cNvGrpSpPr/>
          <p:nvPr/>
        </p:nvGrpSpPr>
        <p:grpSpPr>
          <a:xfrm>
            <a:off x="243000" y="2527920"/>
            <a:ext cx="735840" cy="3198240"/>
            <a:chOff x="243000" y="2527920"/>
            <a:chExt cx="735840" cy="3198240"/>
          </a:xfrm>
        </p:grpSpPr>
        <p:sp>
          <p:nvSpPr>
            <p:cNvPr id="271" name=""/>
            <p:cNvSpPr/>
            <p:nvPr/>
          </p:nvSpPr>
          <p:spPr>
            <a:xfrm rot="16200000">
              <a:off x="-878400" y="3872520"/>
              <a:ext cx="2975040" cy="73188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6200000">
              <a:off x="-984600" y="3760200"/>
              <a:ext cx="3196080" cy="73116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3333cc"/>
                  </a:solidFill>
                  <a:latin typeface="Times New Roman"/>
                </a:rPr>
                <a:t>Actuellement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1182240" y="1523520"/>
            <a:ext cx="77691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3000" indent="-33300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rmet de fractionner le développement et fournit une Façade de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3000" indent="-33300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Facilite l’intégration de divers compos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3000" indent="-33300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ctuellement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4680" indent="-276840">
              <a:spcBef>
                <a:spcPts val="1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7 modules dans le projet ‘Core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4680" indent="-276840">
              <a:spcBef>
                <a:spcPts val="1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3 autres projets (‘applets’, ‘servlets’, ‘struts’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151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Découpage en modul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43000" y="2747520"/>
            <a:ext cx="734400" cy="2978640"/>
            <a:chOff x="243000" y="2747520"/>
            <a:chExt cx="734400" cy="2978640"/>
          </a:xfrm>
        </p:grpSpPr>
        <p:sp>
          <p:nvSpPr>
            <p:cNvPr id="276" name=""/>
            <p:cNvSpPr/>
            <p:nvPr/>
          </p:nvSpPr>
          <p:spPr>
            <a:xfrm rot="16200000">
              <a:off x="-878400" y="3872520"/>
              <a:ext cx="2975040" cy="73188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6200000">
              <a:off x="-876960" y="3870720"/>
              <a:ext cx="2977920" cy="73116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3333cc"/>
                  </a:solidFill>
                  <a:latin typeface="Times New Roman"/>
                </a:rPr>
                <a:t>Architecture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68528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Les proje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240" y="1523520"/>
            <a:ext cx="77691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rmet de travailler sur une petite partie de la platefor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rmet de prendre juste les bibliothèques nécessa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ermet d’abstraire le projet principal (‘Core’) et d’utiliser les services de ce derni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43000" y="2747520"/>
            <a:ext cx="734400" cy="2978640"/>
            <a:chOff x="243000" y="2747520"/>
            <a:chExt cx="734400" cy="2978640"/>
          </a:xfrm>
        </p:grpSpPr>
        <p:sp>
          <p:nvSpPr>
            <p:cNvPr id="281" name=""/>
            <p:cNvSpPr/>
            <p:nvPr/>
          </p:nvSpPr>
          <p:spPr>
            <a:xfrm rot="16200000">
              <a:off x="-878400" y="3872520"/>
              <a:ext cx="2975040" cy="73188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6200000">
              <a:off x="-876960" y="3870720"/>
              <a:ext cx="2977920" cy="73116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3333cc"/>
                  </a:solidFill>
                  <a:latin typeface="Times New Roman"/>
                </a:rPr>
                <a:t>Architecture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68528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CASTORE mav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240" y="1523520"/>
            <a:ext cx="77691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Est le projet permettant de piloter la compilation de CA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ntient les éléments pour construire le site web (rappor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15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Utilisé par le build contin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243000" y="2751120"/>
            <a:ext cx="735840" cy="2975040"/>
            <a:chOff x="243000" y="2751120"/>
            <a:chExt cx="735840" cy="2975040"/>
          </a:xfrm>
        </p:grpSpPr>
        <p:sp>
          <p:nvSpPr>
            <p:cNvPr id="286" name=""/>
            <p:cNvSpPr/>
            <p:nvPr/>
          </p:nvSpPr>
          <p:spPr>
            <a:xfrm rot="16200000">
              <a:off x="-878400" y="3872520"/>
              <a:ext cx="2975040" cy="73188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6200000">
              <a:off x="-254520" y="4490280"/>
              <a:ext cx="1735920" cy="731160"/>
            </a:xfrm>
            <a:prstGeom prst="roundRect">
              <a:avLst>
                <a:gd name="adj" fmla="val 21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3333cc"/>
                  </a:solidFill>
                  <a:latin typeface="Times New Roman"/>
                </a:rPr>
                <a:t>Projets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Bouchet</cp:lastModifiedBy>
  <dcterms:modified xsi:type="dcterms:W3CDTF">2006-01-30T14:31:35Z</dcterms:modified>
  <cp:revision>8</cp:revision>
  <dc:subject/>
  <dc:title>Architecture Technique de la plate-forme CASTOR</dc:title>
</cp:coreProperties>
</file>